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94EE-679D-436A-9F57-022DF5D6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5F82-941F-4AAC-BF48-F8141EC0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CA69-B12A-451D-9F9E-6D19E848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44C1-8A25-4F7D-9651-9F55B41E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C6EF-A69D-42ED-97B7-C21E68FC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8E6E-097F-4C39-8FC5-6ACD2040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C10C-1133-4247-B6CB-802ABF0F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2907-C5F3-40BB-A174-EFD1AA21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070F-A1D4-4DB1-B797-77DF4A65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9780-E27A-48ED-A86A-6180DDFB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BBDC-9260-41FC-B7F5-13F8DC70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D09B-3F60-404E-A7A7-D060BA6F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2A13-AF93-4A3C-B5F3-43EF8462C3D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8465-1D91-4D94-A494-BFB3946C2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9107-8CAE-480D-8951-A7A1EF36AE4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EF75FF-CF75-4B45-80B8-982676D3F35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58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6574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992A-3401-4EE2-BCAE-1449B7C8DF8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3471EC-B832-424D-8949-3385F605A9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505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o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4191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48006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3200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6ACD-C670-4401-A00D-C6F8E7D0C96F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8AB57-AA63-4067-9BA3-EF81ECF907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A4D5-B7CE-4E30-AD74-6E154CD967D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B2342-95D0-41FA-9295-B0CCA608FE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1359-988A-4C03-941B-87B0241E706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AFD6ED-16B1-49F4-8670-47E79CEE6C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CCF4-81B9-467D-898F-5A3CD61ECDE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12B54-01C1-4DDC-9745-86A547B683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E7B5-90C7-43E2-B4B8-F4E039692AA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57DD1-8361-4956-A90D-C9B73EDCA2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2209680"/>
            <a:ext cx="32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209680"/>
            <a:ext cx="358128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8C00-0CF6-4807-993C-1D46A520963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C76D6-2113-4B59-8E2B-E4F4E76F59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46EC-C3A2-4198-87F6-EFE688A8098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46AC13-BB1B-4615-AB4D-57C630BDA0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09840" y="201924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>
            <a:off x="1966680" y="2666880"/>
            <a:ext cx="52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B066-2419-40E9-80AD-1067208C91B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4DB37-094E-454D-917D-24DF5F91EA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E67A-BBB6-4D8F-9ACB-419B2E3D456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123AEA-6A70-438A-8990-1858415697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46D2-1DCE-436B-AF3B-8BF9450E8A6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8A9D71-7DBC-44C1-A0DF-23C727E0F6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EF98-7856-49F5-BC5E-D3D45463531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E73905-35BE-4466-802A-236E09C48E5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DFE9-87BB-4E7A-A2DE-22108BECD8B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89C3E9-6EAD-407C-BB91-247410BD7D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eger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32F3-91F6-4399-BC71-193B6C2D817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7C5CE3-4B25-4323-9C56-048034F7D0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89BD-C9FA-420C-BC2B-3A78828EC91F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1FB9D-D1E6-45C7-8669-D52834708C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F7F1-421E-46EC-8E88-CCE4A8FDD28B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5EFFDC-3886-40EA-9D45-DF5995D0B6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4DC6-4AC6-46AB-826E-5261A5FABDE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7CC994-EF04-47E5-A217-9F5F85EE01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7BCC-3D88-43FF-A2F7-84F692C2250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93ADD5-3E13-4076-83D7-6ADE8EAFB4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5286-5A48-4BD0-9D19-F8C8CE7AD0D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BDA92-3EA9-4E7C-9B83-79F3E4E41B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89EF-0BDB-4245-97C6-48A5972CF5C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26E82B-CFFE-49E8-92D5-F9EE4892CC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05F3-5E2B-4647-BFE5-248E480ED74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852A8E-763B-441F-BC94-F247CF08C5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7895-C4B8-4E7F-8260-FBFA4F2AF99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66EBD1-9BCA-46DF-8455-21FB75E62F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hers and displays data on line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phs y values of function over range of x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81560" y="3975120"/>
            <a:ext cx="1052640" cy="67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910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31040" y="397512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248520" y="2057400"/>
            <a:ext cx="1052280" cy="669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62960" y="3970440"/>
            <a:ext cx="1052280" cy="669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431040" y="490860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2895480"/>
            <a:ext cx="1052640" cy="6717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53" idx="2"/>
            <a:endCxn id="447" idx="0"/>
          </p:cNvCxnSpPr>
          <p:nvPr/>
        </p:nvCxnSpPr>
        <p:spPr>
          <a:xfrm rot="5400000">
            <a:off x="6506640" y="2868480"/>
            <a:ext cx="408600" cy="1805760"/>
          </a:xfrm>
          <a:prstGeom prst="bentConnector3">
            <a:avLst>
              <a:gd name="adj1" fmla="val 497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/>
          <p:nvPr/>
        </p:nvCxnSpPr>
        <p:spPr>
          <a:xfrm flipH="1" rot="16200000">
            <a:off x="7699320" y="3494520"/>
            <a:ext cx="403920" cy="577080"/>
          </a:xfrm>
          <a:prstGeom prst="bentConnector3">
            <a:avLst>
              <a:gd name="adj1" fmla="val 46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49" idx="2"/>
            <a:endCxn id="452" idx="0"/>
          </p:cNvCxnSpPr>
          <p:nvPr/>
        </p:nvCxnSpPr>
        <p:spPr>
          <a:xfrm>
            <a:off x="6955920" y="4647960"/>
            <a:ext cx="108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0" idx="1"/>
            <a:endCxn id="448" idx="0"/>
          </p:cNvCxnSpPr>
          <p:nvPr/>
        </p:nvCxnSpPr>
        <p:spPr>
          <a:xfrm flipV="1" rot="10800000">
            <a:off x="5117400" y="2391840"/>
            <a:ext cx="113112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  <a:endCxn id="453" idx="0"/>
          </p:cNvCxnSpPr>
          <p:nvPr/>
        </p:nvCxnSpPr>
        <p:spPr>
          <a:xfrm>
            <a:off x="7300440" y="2392200"/>
            <a:ext cx="31356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58672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0" idx="2"/>
            <a:endCxn id="459" idx="0"/>
          </p:cNvCxnSpPr>
          <p:nvPr/>
        </p:nvCxnSpPr>
        <p:spPr>
          <a:xfrm rot="5400000">
            <a:off x="6500160" y="2620440"/>
            <a:ext cx="168840" cy="381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69343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076D-FA2A-495E-BA1A-DBBF3019E65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BD561-A1E4-4AB4-856B-C7B93C09F1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DFDA-B933-4BCE-94CE-32E3644F2ABE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0894B-9DFD-4D45-840F-5A9F4ABFCE2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9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stCxn id="467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72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9AF2-273E-4137-8DB0-0AC9B471EC31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5AAAEA-506B-4DDE-ABAB-863A957AA0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8EF5-1C6F-4B3A-BCF9-4374EAC444D8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94CDB8-F25D-425B-8D4B-140D01FCC5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3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5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F309-B248-4357-A67F-D650606DA16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7F201D-508C-47A2-BE6C-02650F3410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2135-88B0-4781-9D47-16D8B40E0D95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E43BDC-4F4F-4B9B-80BB-B3C1239BC87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94" idx="1"/>
            <a:endCxn id="498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9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498" idx="2"/>
            <a:endCxn id="493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501" idx="2"/>
            <a:endCxn id="493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E98E-66A4-4B8F-B35B-F979F869BC8A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97BBE-3F53-405C-A6C1-226353BFC2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8" name=""/>
          <p:cNvCxnSpPr>
            <a:stCxn id="509" idx="3"/>
            <a:endCxn id="510" idx="2"/>
          </p:cNvCxnSpPr>
          <p:nvPr/>
        </p:nvCxnSpPr>
        <p:spPr>
          <a:xfrm>
            <a:off x="4723920" y="2971800"/>
            <a:ext cx="877320" cy="381600"/>
          </a:xfrm>
          <a:prstGeom prst="curvedConnector5">
            <a:avLst>
              <a:gd name="adj1" fmla="val 17364"/>
              <a:gd name="adj2" fmla="val 79981"/>
              <a:gd name="adj3" fmla="val 17364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1" name=""/>
          <p:cNvCxnSpPr>
            <a:stCxn id="509" idx="3"/>
            <a:endCxn id="512" idx="2"/>
          </p:cNvCxnSpPr>
          <p:nvPr/>
        </p:nvCxnSpPr>
        <p:spPr>
          <a:xfrm>
            <a:off x="4723920" y="2971800"/>
            <a:ext cx="2248920" cy="381600"/>
          </a:xfrm>
          <a:prstGeom prst="curvedConnector5">
            <a:avLst>
              <a:gd name="adj1" fmla="val 37271"/>
              <a:gd name="adj2" fmla="val 79981"/>
              <a:gd name="adj3" fmla="val 37271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0292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14" idx="2"/>
            <a:endCxn id="509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9" idx="1"/>
            <a:endCxn id="515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09" idx="3"/>
            <a:endCxn id="516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5" idx="1"/>
            <a:endCxn id="517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5" idx="3"/>
            <a:endCxn id="518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18" idx="2"/>
            <a:endCxn id="519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FCAB-A550-4498-8B5B-FC752984213B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5A7B6-492F-47D8-B065-4DEB2BB73D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7" name=""/>
          <p:cNvCxnSpPr>
            <a:stCxn id="528" idx="3"/>
            <a:endCxn id="529" idx="2"/>
          </p:cNvCxnSpPr>
          <p:nvPr/>
        </p:nvCxnSpPr>
        <p:spPr>
          <a:xfrm>
            <a:off x="6325920" y="2928600"/>
            <a:ext cx="592920" cy="254520"/>
          </a:xfrm>
          <a:prstGeom prst="curvedConnector5">
            <a:avLst>
              <a:gd name="adj1" fmla="val 17132"/>
              <a:gd name="adj2" fmla="val 94900"/>
              <a:gd name="adj3" fmla="val 17132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30" name=""/>
          <p:cNvCxnSpPr>
            <a:stCxn id="528" idx="3"/>
            <a:endCxn id="531" idx="2"/>
          </p:cNvCxnSpPr>
          <p:nvPr/>
        </p:nvCxnSpPr>
        <p:spPr>
          <a:xfrm>
            <a:off x="6326280" y="2928600"/>
            <a:ext cx="1529280" cy="254520"/>
          </a:xfrm>
          <a:prstGeom prst="curvedConnector5">
            <a:avLst>
              <a:gd name="adj1" fmla="val 37273"/>
              <a:gd name="adj2" fmla="val 94900"/>
              <a:gd name="adj3" fmla="val 37273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2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31120" y="2670120"/>
            <a:ext cx="7729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467480" y="267012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67012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2" idx="2"/>
            <a:endCxn id="528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8" idx="1"/>
            <a:endCxn id="533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28" idx="3"/>
            <a:endCxn id="534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3" idx="1"/>
            <a:endCxn id="535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3" idx="3"/>
            <a:endCxn id="536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36" idx="2"/>
            <a:endCxn id="537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B089-A6F8-4FAA-82CC-F153AF6DDEF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93119E-075C-43AC-8794-FCB45C01C9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5202-F790-4A8A-912F-B716AD98852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AF32F0-36AE-446E-AECB-44FABBAA36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8EB4-A084-4B0F-AE70-00EAF462C0B4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81BFC6-3CDF-44BB-BBDA-BE71BB3E95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D303-1B0C-4694-B862-00851535055E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DD052-2478-48BA-A832-0817EF0C89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E76B-CF3E-4986-AC1E-D7FE7ECB32EE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4EBB9-7018-4FEC-AABB-0CC386157D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5C21-0FC6-4B18-BF82-C53C49ED14F6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F7BDB-3383-44AC-B963-8FBC606B1D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TkObjC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2" idx="1"/>
            <a:endCxn id="563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3"/>
            <a:endCxn id="565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stCxn id="562" idx="2"/>
            <a:endCxn id="567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"/>
          <p:cNvCxnSpPr/>
          <p:nvPr/>
        </p:nvCxnSpPr>
        <p:spPr>
          <a:xfrm>
            <a:off x="5638320" y="3123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EF0E-7B36-4D21-A362-F7616546AE1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DD7C8-8100-4CED-B923-4919E213C0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E96E-BFE1-49C4-B25A-C92A9620AB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51BB98-9FBF-4798-B07A-44F35C303D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10B4-AAF1-4444-B632-6D91987896C1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BB5898-8444-42A1-A9B2-2F7CB6B048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FF59-0BFF-4DDB-8020-F92B5BD510B3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CD0F3-AC9B-400D-9E4F-00A57A00D1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6CEA-718B-43DF-AAD7-31114CF79832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7EC6C0-9A68-489B-A3C6-5166001F15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3C5D-CBD8-4278-B93A-8FE242E3FED5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11D6F-0051-4D3D-A32D-08ADCA590B3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Office</cp:lastModifiedBy>
  <cp:lastPrinted>1998-03-19T09:02:27Z</cp:lastPrinted>
  <dcterms:modified xsi:type="dcterms:W3CDTF">1999-03-25T09:39:46Z</dcterms:modified>
  <cp:revision>18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