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C26F-A31B-4D8E-998A-B96AD21C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9599-CCB8-49EE-AF55-FF678288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DEEA-AD67-4AF8-99D7-89D2591CF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8449-85B6-4DE7-97C5-CE4F5C36E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E3FE-9ABE-4702-8318-387C77B3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EE78-8D14-4207-A7D3-04232256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E609-8619-4197-AD8C-397207AB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E407-05C9-4ADD-9622-9EC134F6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6790-DDDF-41CB-8F07-2771C85E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6CF9-DC15-47BF-B1E3-4FB2D082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F918-5651-4DDE-8E66-079E56BC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0125-07E4-4A98-AB90-61CB46AD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7FCE-6390-4882-A1D7-7F1D8D4D07F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A931-AD71-4B54-813E-ADA9BF934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7BA3-8FBF-4761-BC56-6B61133F972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41E3B-80F1-46CD-B162-EA115A3E4FF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58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6574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29E9-4170-4D61-B476-27A31F4CDE5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2028F7-8466-46DE-BFCF-BC2BEA50C0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505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o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4191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48006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3200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EFE1-83B4-4B89-BF39-70B9D97C994A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C600D-87B6-4473-B5D9-8C56C80E21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5DEB-6704-4DC4-9590-FE805143CBC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4683A0-65FD-44E2-8BE3-9608F193C71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FD74-56D1-4390-B8A3-487A9182AB8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B1414D-FEAC-4C35-A5FF-7EB23E9E65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F461-251E-46DB-90CF-7CA5279C92E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10CFF8-DECD-4AE2-AAB0-16847A908C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5275-908C-4EC4-82A3-73DC4A900C3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0A245-02C9-47D1-89AA-7D6CCA2549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2209680"/>
            <a:ext cx="32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209680"/>
            <a:ext cx="358128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CD27-4193-4D02-97AF-42D3C04BCBE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A9DF93-3E6D-4AF1-BF71-128048FE67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4080-69B4-47B7-8287-6488E9E781E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B1A2B7-9CB8-446F-BADD-D3FA3EA16B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09840" y="201924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>
            <a:off x="1966680" y="2666880"/>
            <a:ext cx="52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2925-782A-4F76-91DC-7E4D96A8EA1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1768C-FF72-47F0-8C13-462F167544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4DEE-C50F-4CF0-A140-C45DADA4D76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CA3FFB-CA2D-45E4-AE7D-61F4E8EF90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6504-BD2E-42D2-90C9-F4A80DFE9C1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C50215-2891-4102-813C-42CB8C7819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FA86-DF1E-413B-82C3-77DE37B8501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51B6B7-5A4D-4025-B7AB-4C810C9730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C6A7-9956-48FB-ADAA-017A870BA1C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2950A0-7DB0-42B7-9A8F-1AC2869531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eger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1205-5A51-46F3-AFBA-31607119BE1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5462E0-6B52-4627-9FC6-47BE8DD6C8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BF74-144E-4CFD-93C4-06DD472820BF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9D461D-76ED-485C-A6B4-909D964968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2579-317B-46A2-AA43-DED4736DC84B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0AC2E4-C28D-4505-8028-3C9AD4D720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9736-2FD5-4135-AB06-1946929A75C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F196CA-0055-468A-A850-89A8499E517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DD09-E1F8-4B35-B106-7D5B89D7E67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1F1C13-92B2-4488-9A24-4B1FF95AF4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ABDC-9F43-42BB-8977-A4EEEA23F7B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BD8B61-FDB6-4721-A978-9817E24D65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31DE-A125-480C-ABFA-1C41FF79783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D5DFD-4CA5-4BD8-8D20-0064071CB0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FB46-C9DB-4E53-AEE9-BAFA8DDEC49D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8D3E2D-78FF-48A2-A649-5CF968F886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C3A6-C8A8-4E52-A192-426C62346EF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22245-87C5-4D19-85D6-8A29154EE2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thers and displays data on line 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phs y values of function over range of x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81560" y="3975120"/>
            <a:ext cx="1052640" cy="67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910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31040" y="397512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248520" y="2057400"/>
            <a:ext cx="1052280" cy="669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62960" y="3970440"/>
            <a:ext cx="1052280" cy="669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431040" y="490860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86600" y="2895480"/>
            <a:ext cx="1052640" cy="6717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53" idx="2"/>
            <a:endCxn id="447" idx="0"/>
          </p:cNvCxnSpPr>
          <p:nvPr/>
        </p:nvCxnSpPr>
        <p:spPr>
          <a:xfrm rot="5400000">
            <a:off x="6506640" y="2868480"/>
            <a:ext cx="408600" cy="1805760"/>
          </a:xfrm>
          <a:prstGeom prst="bentConnector3">
            <a:avLst>
              <a:gd name="adj1" fmla="val 497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/>
          <p:nvPr/>
        </p:nvCxnSpPr>
        <p:spPr>
          <a:xfrm flipH="1" rot="16200000">
            <a:off x="7699320" y="3494520"/>
            <a:ext cx="403920" cy="577080"/>
          </a:xfrm>
          <a:prstGeom prst="bentConnector3">
            <a:avLst>
              <a:gd name="adj1" fmla="val 468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49" idx="2"/>
            <a:endCxn id="452" idx="0"/>
          </p:cNvCxnSpPr>
          <p:nvPr/>
        </p:nvCxnSpPr>
        <p:spPr>
          <a:xfrm>
            <a:off x="6955920" y="4647960"/>
            <a:ext cx="108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0" idx="1"/>
            <a:endCxn id="448" idx="0"/>
          </p:cNvCxnSpPr>
          <p:nvPr/>
        </p:nvCxnSpPr>
        <p:spPr>
          <a:xfrm flipV="1" rot="10800000">
            <a:off x="5117400" y="2391840"/>
            <a:ext cx="113112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0" idx="3"/>
            <a:endCxn id="453" idx="0"/>
          </p:cNvCxnSpPr>
          <p:nvPr/>
        </p:nvCxnSpPr>
        <p:spPr>
          <a:xfrm>
            <a:off x="7300440" y="2392200"/>
            <a:ext cx="31356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58672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0" idx="2"/>
            <a:endCxn id="459" idx="0"/>
          </p:cNvCxnSpPr>
          <p:nvPr/>
        </p:nvCxnSpPr>
        <p:spPr>
          <a:xfrm rot="5400000">
            <a:off x="6500160" y="2620440"/>
            <a:ext cx="168840" cy="381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69343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A7A2-86FC-43A2-A559-F17CBA2D8D3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6404BA-EAD6-4A98-9CED-45176BA483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41EA-C63C-41C9-9517-377DAF377CDC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235810-B605-4C2E-8736-122F2ECDA6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9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>
            <a:stCxn id="467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2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72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998D-23E4-46D4-9774-7DA341E43F4D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F2D55-65A8-4132-90C8-2CBB4DB6CA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B0DE-1662-41FB-82DC-10A411F4C843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C54113-74CA-4389-AEAA-3BD92373C0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3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5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629B-3AD8-442D-A6C1-EDE58BEC8F0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D0E8DA-C2E8-46B6-BBD5-29FB051CB7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7515-E680-4D62-81C7-08A22ED9075D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629816-E1B6-4455-919D-9D6EEEFE23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94" idx="1"/>
            <a:endCxn id="498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9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stCxn id="498" idx="2"/>
            <a:endCxn id="493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501" idx="2"/>
            <a:endCxn id="493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C87E-368E-4E76-879B-076A269425CD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90126D-3CDA-4E96-B8BC-2806658553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8" name=""/>
          <p:cNvCxnSpPr>
            <a:stCxn id="509" idx="3"/>
            <a:endCxn id="510" idx="2"/>
          </p:cNvCxnSpPr>
          <p:nvPr/>
        </p:nvCxnSpPr>
        <p:spPr>
          <a:xfrm>
            <a:off x="4723920" y="2971800"/>
            <a:ext cx="877320" cy="381600"/>
          </a:xfrm>
          <a:prstGeom prst="curvedConnector5">
            <a:avLst>
              <a:gd name="adj1" fmla="val 17364"/>
              <a:gd name="adj2" fmla="val 79981"/>
              <a:gd name="adj3" fmla="val 17364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1" name=""/>
          <p:cNvCxnSpPr>
            <a:stCxn id="509" idx="3"/>
            <a:endCxn id="512" idx="2"/>
          </p:cNvCxnSpPr>
          <p:nvPr/>
        </p:nvCxnSpPr>
        <p:spPr>
          <a:xfrm>
            <a:off x="4723920" y="2971800"/>
            <a:ext cx="2248920" cy="381600"/>
          </a:xfrm>
          <a:prstGeom prst="curvedConnector5">
            <a:avLst>
              <a:gd name="adj1" fmla="val 37271"/>
              <a:gd name="adj2" fmla="val 79981"/>
              <a:gd name="adj3" fmla="val 37271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0292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0512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14" idx="2"/>
            <a:endCxn id="509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9" idx="1"/>
            <a:endCxn id="515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09" idx="3"/>
            <a:endCxn id="516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5" idx="1"/>
            <a:endCxn id="517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5" idx="3"/>
            <a:endCxn id="518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18" idx="2"/>
            <a:endCxn id="519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7C4C-DA76-46A1-95C2-2A8BE1E8685B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E58F7-0085-47C2-8984-A506A99FC9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7" name=""/>
          <p:cNvCxnSpPr>
            <a:stCxn id="528" idx="3"/>
            <a:endCxn id="529" idx="2"/>
          </p:cNvCxnSpPr>
          <p:nvPr/>
        </p:nvCxnSpPr>
        <p:spPr>
          <a:xfrm>
            <a:off x="6325920" y="2928600"/>
            <a:ext cx="592920" cy="254520"/>
          </a:xfrm>
          <a:prstGeom prst="curvedConnector5">
            <a:avLst>
              <a:gd name="adj1" fmla="val 17132"/>
              <a:gd name="adj2" fmla="val 94900"/>
              <a:gd name="adj3" fmla="val 17132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30" name=""/>
          <p:cNvCxnSpPr>
            <a:stCxn id="528" idx="3"/>
            <a:endCxn id="531" idx="2"/>
          </p:cNvCxnSpPr>
          <p:nvPr/>
        </p:nvCxnSpPr>
        <p:spPr>
          <a:xfrm>
            <a:off x="6326280" y="2928600"/>
            <a:ext cx="1529280" cy="254520"/>
          </a:xfrm>
          <a:prstGeom prst="curvedConnector5">
            <a:avLst>
              <a:gd name="adj1" fmla="val 37273"/>
              <a:gd name="adj2" fmla="val 94900"/>
              <a:gd name="adj3" fmla="val 37273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2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31120" y="2670120"/>
            <a:ext cx="7729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467480" y="267012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67012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2" idx="2"/>
            <a:endCxn id="528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8" idx="1"/>
            <a:endCxn id="533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28" idx="3"/>
            <a:endCxn id="534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3" idx="1"/>
            <a:endCxn id="535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3" idx="3"/>
            <a:endCxn id="536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stCxn id="536" idx="2"/>
            <a:endCxn id="537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2D0B-94E9-452B-954F-F59CBD4133C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2B99E4-4A43-4939-9C1E-1B8BBDE6E3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86EF-8E3B-4D8A-941A-034238E657E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9C7F5E-A421-4687-BC55-985CB7013C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C8D5-5AC1-4164-BB3D-9985E0EAE127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2DEF0-2C1A-4965-AC35-6074D281B5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7564-EA71-4A01-8429-D750EEBAFAE6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640C1B-84C0-4DCA-9750-626F24ED4C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5E1F-5915-4AC0-B264-627C4304D26C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3D29BF-4316-49C9-9E59-ABE0650F6A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A9ED-10F3-40DD-B1A6-450C4DD9F4E2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56DB90-A621-43BB-8748-ABAEEE1125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TkObjC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2" idx="1"/>
            <a:endCxn id="563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3"/>
            <a:endCxn id="565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"/>
          <p:cNvCxnSpPr>
            <a:stCxn id="562" idx="2"/>
            <a:endCxn id="567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9" name=""/>
          <p:cNvCxnSpPr/>
          <p:nvPr/>
        </p:nvCxnSpPr>
        <p:spPr>
          <a:xfrm>
            <a:off x="5638320" y="31237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0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C9EE-768B-4558-B0C7-234B1B294D7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F69153-9B02-40BC-9E3E-A6328A6F7B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DAF7-C770-4187-B9DB-93F79C2B05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CA8C57-7B65-46E0-B246-65A2850B572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CF1C-18E6-432D-968C-49060B1C11E0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3E36C5-0C55-4443-A768-69327D09BC8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047A-AA33-4034-A9AC-B1737E6C5468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5F3367-4FAC-473A-8528-AA9280C2BD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3C7A-498E-4C33-AD2D-BD6ED5832FE4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62ADC-ACE3-433D-AD8D-7403AB6C775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39D0-9F54-433D-B3DA-4A4674B93CB2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3F53D6-5FF8-4597-9F08-8BC4B3E7DD7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Office</cp:lastModifiedBy>
  <cp:lastPrinted>1998-03-19T09:02:27Z</cp:lastPrinted>
  <dcterms:modified xsi:type="dcterms:W3CDTF">1999-03-25T09:39:46Z</dcterms:modified>
  <cp:revision>18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