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32600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69FA-DE57-4F4D-BC24-E7E8714A0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123E-FB18-45E3-A550-971979826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2943-CDA5-458A-959B-F9570FEA3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263E-6AA5-4F92-B73F-AFFD40AD6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E0B5-0887-43C4-B008-F25806E85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B6E3-E2FF-486E-A674-400A809E1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2B23-4B98-498C-B305-F949F3896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C7A1-E7C4-4488-96E7-A5C27F84B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05A3-ED91-4E2B-ABEB-E792859F4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C7B6-9CF5-4A00-A9C3-3D58A99DA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8CD8-B8A9-4A3D-930E-688FF293C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141B-466B-4C27-BBB3-918D89A5A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6B8D9-9E9B-4103-83D5-01CD53A6E688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172A5-FFAC-4EC4-A6F5-8B62F89042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armfest ‘99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u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ssion II: Simplebug de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nedikt Stefans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benedikt@ucla.edu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oodSpace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subclassing from Discrete2d FoodSpace inherits several Ivars and about 16 methods to store and retrieve values in 2d sp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only addition is a method to fill space with “food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377240" y="2154240"/>
            <a:ext cx="432612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seedFoodWithProb:(float)seedPro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x,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y = 0; y &lt; ysize; y++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x = 0; x &lt; xsize; x++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[uniformDblR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etDoubleWithMin: 0.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ithMax: 1.0]&lt;=seedPr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self putValue: 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tX: x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Y: y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self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246720" y="5345280"/>
            <a:ext cx="2343240" cy="439560"/>
          </a:xfrm>
          <a:prstGeom prst="wedgeRectCallout">
            <a:avLst>
              <a:gd name="adj1" fmla="val -49527"/>
              <a:gd name="adj2" fmla="val -173828"/>
            </a:avLst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herited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553080" y="2666880"/>
            <a:ext cx="2343240" cy="439920"/>
          </a:xfrm>
          <a:prstGeom prst="wedgeRectCallout">
            <a:avLst>
              <a:gd name="adj1" fmla="val -37398"/>
              <a:gd name="adj2" fmla="val 75629"/>
            </a:avLst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herited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D93E-13E2-4D2B-90FA-504B7F0E563B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395751-605B-43AD-A365-5BE7F4ED097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ot class of Swarm. Memory management, create, drop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armOb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s support for 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2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d lattice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657760" y="2178000"/>
            <a:ext cx="541440" cy="54144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599160" y="2954160"/>
            <a:ext cx="541440" cy="541440"/>
          </a:xfrm>
          <a:prstGeom prst="ellipse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5" name=""/>
          <p:cNvCxnSpPr>
            <a:stCxn id="103" idx="4"/>
            <a:endCxn id="104" idx="0"/>
          </p:cNvCxnSpPr>
          <p:nvPr/>
        </p:nvCxnSpPr>
        <p:spPr>
          <a:xfrm flipH="1" rot="16200000">
            <a:off x="6281640" y="2365920"/>
            <a:ext cx="235440" cy="942120"/>
          </a:xfrm>
          <a:prstGeom prst="bentConnector3">
            <a:avLst>
              <a:gd name="adj1" fmla="val 49923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06" name=""/>
          <p:cNvSpPr/>
          <p:nvPr/>
        </p:nvSpPr>
        <p:spPr>
          <a:xfrm>
            <a:off x="6523920" y="219240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495680" y="3048120"/>
            <a:ext cx="185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284960" y="3639960"/>
            <a:ext cx="541440" cy="541440"/>
          </a:xfrm>
          <a:prstGeom prst="ellipse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989680" y="3639960"/>
            <a:ext cx="541440" cy="541440"/>
          </a:xfrm>
          <a:prstGeom prst="ellipse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4" idx="4"/>
            <a:endCxn id="109" idx="0"/>
          </p:cNvCxnSpPr>
          <p:nvPr/>
        </p:nvCxnSpPr>
        <p:spPr>
          <a:xfrm rot="5400000">
            <a:off x="6492960" y="3262320"/>
            <a:ext cx="144720" cy="610200"/>
          </a:xfrm>
          <a:prstGeom prst="bentConnector3">
            <a:avLst>
              <a:gd name="adj1" fmla="val 4937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1" name=""/>
          <p:cNvCxnSpPr>
            <a:stCxn id="104" idx="4"/>
            <a:endCxn id="108" idx="0"/>
          </p:cNvCxnSpPr>
          <p:nvPr/>
        </p:nvCxnSpPr>
        <p:spPr>
          <a:xfrm flipH="1" rot="16200000">
            <a:off x="7140600" y="3224160"/>
            <a:ext cx="144720" cy="686520"/>
          </a:xfrm>
          <a:prstGeom prst="bentConnector3">
            <a:avLst>
              <a:gd name="adj1" fmla="val 49376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12" name=""/>
          <p:cNvSpPr/>
          <p:nvPr/>
        </p:nvSpPr>
        <p:spPr>
          <a:xfrm>
            <a:off x="4465800" y="379260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e2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467240" y="4630680"/>
            <a:ext cx="15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d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989680" y="4554360"/>
            <a:ext cx="541440" cy="541440"/>
          </a:xfrm>
          <a:prstGeom prst="ellipse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stCxn id="109" idx="4"/>
            <a:endCxn id="114" idx="0"/>
          </p:cNvCxnSpPr>
          <p:nvPr/>
        </p:nvCxnSpPr>
        <p:spPr>
          <a:xfrm>
            <a:off x="6260760" y="4181400"/>
            <a:ext cx="1080" cy="373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ower of inherit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0ED6-AF2C-45B3-9F2C-B0778DACA69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F76E8B-EA1F-41FE-8765-BC4C06B3F87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Swarm: The ModelSw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instance of the  Swarm class can manage a model wor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ilitates the creation of agents and interaction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 can have many Swarms, often n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43600" y="1981080"/>
            <a:ext cx="1330200" cy="866880"/>
          </a:xfrm>
          <a:prstGeom prst="flowChartDocumen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3886200"/>
            <a:ext cx="1600200" cy="16002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629400" y="4114800"/>
            <a:ext cx="1676520" cy="1619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d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/>
          <p:nvPr/>
        </p:nvCxnSpPr>
        <p:spPr>
          <a:xfrm>
            <a:off x="6019560" y="4723920"/>
            <a:ext cx="686520" cy="105480"/>
          </a:xfrm>
          <a:prstGeom prst="straightConnector1">
            <a:avLst/>
          </a:prstGeom>
          <a:ln w="38160">
            <a:solidFill>
              <a:srgbClr val="b2b2b2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3" name=""/>
          <p:cNvSpPr/>
          <p:nvPr/>
        </p:nvSpPr>
        <p:spPr>
          <a:xfrm>
            <a:off x="5442120" y="2867040"/>
            <a:ext cx="226980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rot="10762200">
            <a:off x="5257800" y="3580920"/>
            <a:ext cx="457200" cy="381240"/>
          </a:xfrm>
          <a:custGeom>
            <a:avLst/>
            <a:gdLst>
              <a:gd name="textAreaLeft" fmla="*/ 152280 w 457200"/>
              <a:gd name="textAreaRight" fmla="*/ 391680 w 45720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 rot="10777800">
            <a:off x="7543080" y="3809520"/>
            <a:ext cx="457200" cy="38124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456240" y="2716200"/>
            <a:ext cx="212760" cy="423720"/>
          </a:xfrm>
          <a:prstGeom prst="downArrow">
            <a:avLst>
              <a:gd name="adj1" fmla="val 50000"/>
              <a:gd name="adj2" fmla="val 49788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162920" y="2819520"/>
            <a:ext cx="650880" cy="650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543800" y="2895480"/>
            <a:ext cx="307800" cy="271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504B-AB71-4527-A965-61CE997FDF4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94AEFE-6624-4F8A-B3DF-7D2741F650B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a Sw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Begin,createE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memory and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I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uild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all the agents and objects in th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II. build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order and timing of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V. activ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rge into top level swarm or start Swarm ru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7B3B-0439-4F2E-B7F6-FEB09CF030F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04EF0C-685B-45E9-BE68-11A4D63F25B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752480" y="1905120"/>
            <a:ext cx="213372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648320" y="1905120"/>
            <a:ext cx="106668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752480" y="2362320"/>
            <a:ext cx="304812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752480" y="2971800"/>
            <a:ext cx="548640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2480" y="3429000"/>
            <a:ext cx="3657600" cy="1828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: Initializ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752120" y="1905120"/>
            <a:ext cx="5791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+createBegin: (id) aZone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delSwarm * obj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 = [super createBegin: a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worldXSize = 8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worldYSize = 8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seedProb = 0.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xPos = 4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yPos = 4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obj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19320" y="1828800"/>
            <a:ext cx="374400" cy="404640"/>
          </a:xfrm>
          <a:custGeom>
            <a:avLst/>
            <a:gdLst>
              <a:gd name="textAreaLeft" fmla="*/ 85320 w 374400"/>
              <a:gd name="textAreaRight" fmla="*/ 289080 w 37440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67280" y="19051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219320" y="2286000"/>
            <a:ext cx="374400" cy="404640"/>
          </a:xfrm>
          <a:custGeom>
            <a:avLst/>
            <a:gdLst>
              <a:gd name="textAreaLeft" fmla="*/ 85320 w 374400"/>
              <a:gd name="textAreaRight" fmla="*/ 289080 w 37440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219320" y="2895480"/>
            <a:ext cx="374400" cy="405000"/>
          </a:xfrm>
          <a:custGeom>
            <a:avLst/>
            <a:gdLst>
              <a:gd name="textAreaLeft" fmla="*/ 85320 w 374400"/>
              <a:gd name="textAreaRight" fmla="*/ 289080 w 37440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4038480"/>
            <a:ext cx="374400" cy="405000"/>
          </a:xfrm>
          <a:custGeom>
            <a:avLst/>
            <a:gdLst>
              <a:gd name="textAreaLeft" fmla="*/ 85320 w 374400"/>
              <a:gd name="textAreaRight" fmla="*/ 289080 w 37440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5F71-C897-4322-9EBF-B877A2A93DA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56C577-2380-495C-AFFB-F2318939AB1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tails on createBegin meth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“+” indicates that this is a class method as opposed to “-” which indicates an instance meth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Swarm * obj” indicates to compiler that obj is statically typ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super ...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cutes createBegin method in the super class of obj (Swarm) and returns an instance of 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-&gt;varName=v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uses OOP paradigm and “pokes” values directly into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9480" y="205740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0" y="44197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9480" y="4267080"/>
            <a:ext cx="374760" cy="405000"/>
          </a:xfrm>
          <a:custGeom>
            <a:avLst/>
            <a:gdLst>
              <a:gd name="textAreaLeft" fmla="*/ 85320 w 374760"/>
              <a:gd name="textAreaRight" fmla="*/ 289440 w 37476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0" y="205740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F79D-8D48-401E-921E-43F92FC75D52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EE81A0-6DCA-4749-A19D-72B442A7D2A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mory z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efobj super class provides facilities to create and drop an object - allocate and deallocate 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object is created in a memory z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fectively this means that the underlying mechanism provides enough memory for the instance, its variables and metho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zone also keeps track of all objects created in it and allows you to reclaim memory simply by dropping a zone. It will signals to all objects in it to destroy themsel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362320" y="990720"/>
            <a:ext cx="374400" cy="404640"/>
          </a:xfrm>
          <a:custGeom>
            <a:avLst/>
            <a:gdLst>
              <a:gd name="textAreaLeft" fmla="*/ 85320 w 374400"/>
              <a:gd name="textAreaRight" fmla="*/ 289080 w 37440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9666-1D4D-4974-AF8A-A9BDA2D9B3EF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380AAC-ABD8-4CD0-B299-E171A320849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80880" y="4648320"/>
            <a:ext cx="5562720" cy="11430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33520" y="3276720"/>
            <a:ext cx="6858000" cy="11430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62120" y="1828800"/>
            <a:ext cx="4114800" cy="106668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00200" y="3657600"/>
            <a:ext cx="66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 main.m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elSwarm= [ModelSwarm create: global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did that zone come fro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90360" y="2133720"/>
            <a:ext cx="4190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 main.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: initSwarm (argc, argv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52520" y="5029200"/>
            <a:ext cx="37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 ModelSwarm.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+createBegi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724280" y="1600200"/>
            <a:ext cx="3962520" cy="2057400"/>
          </a:xfrm>
          <a:prstGeom prst="ellipse">
            <a:avLst/>
          </a:prstGeom>
          <a:solidFill>
            <a:srgbClr val="00ff99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s vari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nctions i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im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ich create a global memory z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mong other th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4114800"/>
            <a:ext cx="4343400" cy="1905120"/>
          </a:xfrm>
          <a:prstGeom prst="ellipse">
            <a:avLst/>
          </a:prstGeom>
          <a:solidFill>
            <a:srgbClr val="00ff99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: method is implemen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superclass of 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war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it calls the createBegi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thod i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" name=""/>
          <p:cNvCxnSpPr/>
          <p:nvPr/>
        </p:nvCxnSpPr>
        <p:spPr>
          <a:xfrm rot="5400000">
            <a:off x="6912000" y="2688120"/>
            <a:ext cx="716760" cy="12834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3" name=""/>
          <p:cNvCxnSpPr/>
          <p:nvPr/>
        </p:nvCxnSpPr>
        <p:spPr>
          <a:xfrm flipH="1" rot="16200000">
            <a:off x="5637600" y="3809520"/>
            <a:ext cx="343800" cy="8010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4" name=""/>
          <p:cNvCxnSpPr/>
          <p:nvPr/>
        </p:nvCxnSpPr>
        <p:spPr>
          <a:xfrm flipH="1" flipV="1" rot="5400000">
            <a:off x="4266720" y="608760"/>
            <a:ext cx="229320" cy="2972520"/>
          </a:xfrm>
          <a:prstGeom prst="curvedConnector5">
            <a:avLst>
              <a:gd name="adj1" fmla="val 200000"/>
              <a:gd name="adj2" fmla="val 50000"/>
              <a:gd name="adj3" fmla="val 200000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5" name=""/>
          <p:cNvCxnSpPr/>
          <p:nvPr/>
        </p:nvCxnSpPr>
        <p:spPr>
          <a:xfrm flipV="1" rot="16200000">
            <a:off x="4456440" y="4381560"/>
            <a:ext cx="315000" cy="2218320"/>
          </a:xfrm>
          <a:prstGeom prst="curvedConnector5">
            <a:avLst>
              <a:gd name="adj1" fmla="val -161556"/>
              <a:gd name="adj2" fmla="val 49991"/>
              <a:gd name="adj3" fmla="val -161556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2B90-0ECF-43FF-8C0A-9FBC03123CD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547DB0-0C95-461C-86CE-F7092F8CA67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838080" y="2286000"/>
            <a:ext cx="5791320" cy="304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2649600"/>
            <a:ext cx="5791320" cy="32076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38080" y="3429000"/>
            <a:ext cx="5791320" cy="3049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8080" y="3048120"/>
            <a:ext cx="5791320" cy="304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38080" y="3886200"/>
            <a:ext cx="5791320" cy="304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38080" y="4267080"/>
            <a:ext cx="5791320" cy="10670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38080" y="5410080"/>
            <a:ext cx="5791320" cy="3049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I: Building the ag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buildObjects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odSpace = [FoodSpace createBegin: global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foodSpace setSizeX: worldXSize Y: worldYSiz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odSpace = [foodSpace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foodSpace seedFoodWithProb: seedProb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Bug = [Bug createBegin: global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Bug setWorldSizeX: worldXSize Y: worldYSiz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Bug setFoodSpace: foodSpac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Bug setX: xPos Y: yPos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Bug = [aBug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 self;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05F4-FAD3-4C13-ABA8-D5C1D1289D43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4D4C0B-89BD-4EA8-9911-F2CB95C4BCC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tails on the buildObjects ph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urpose of this method is to create each instance of objects needed at the start of simulation, and then to pass parameters to the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good OOP protocol to provide setX: methods for each parameter X we want to set, as in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[aBug setFoodSpace: foodSpace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D6B1-4F7F-417E-8E96-9B3F164CA09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0EEF71-3FD5-450E-929D-194E6EFC849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ond se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utorial: Simplebu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: From C to Objective-C to Sw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GUI: Probes, raster image, grap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ing and controlling full experiment r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pics cover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aging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arms, activity library, probes, GU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8C47-C9FA-43F1-B85B-303878BCCD1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8623C3-5F10-4A45-9F9B-E37907D472D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createBegin vs. creat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createBegin:, createEnd is appropriate when we want a reminder that the object needs to initialize something, calculate or set (usually this code is put in the createEnd method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ways use createBegin with createEnd to avoid messy problems (object returned o.w. not val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create: is perfectly fine if we just want just to create an object without further 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221E-F37D-471E-87D2-335E65F255A3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6DE640-40CA-4084-A91F-EE3110733F3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609480" y="3505320"/>
            <a:ext cx="6934320" cy="3045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09480" y="3124080"/>
            <a:ext cx="6934320" cy="30492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09480" y="2743200"/>
            <a:ext cx="6934320" cy="304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II: Building schedul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buildActions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delSchedule=[Schedule createBeg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chedule setRepeatInterval: 1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delSchedule = [modelSchedule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chedule at: 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ActionTo: aBug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essage: M(step)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sel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34CB-CCE4-4699-B316-F2DF68B0856B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BBCC36-2AD4-4235-9022-AC15963F04A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hed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85800" y="1981080"/>
            <a:ext cx="403848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es define event in terms of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of first inv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rget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 to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at interv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86280" y="2239920"/>
            <a:ext cx="33703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327640" y="2133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209000" y="212724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149080" y="156528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077520" y="157644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076160" y="160668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48120" y="221940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797520" y="221148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971960" y="33940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493160" y="3429000"/>
            <a:ext cx="37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at:      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ActionTo: 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:            M(method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729480" y="3395520"/>
            <a:ext cx="369720" cy="443160"/>
          </a:xfrm>
          <a:custGeom>
            <a:avLst/>
            <a:gdLst>
              <a:gd name="textAreaLeft" fmla="*/ 84240 w 369720"/>
              <a:gd name="textAreaRight" fmla="*/ 285480 w 3697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427880" y="376092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153280" y="411480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71560" y="3338640"/>
            <a:ext cx="298440" cy="425160"/>
          </a:xfrm>
          <a:custGeom>
            <a:avLst/>
            <a:gdLst>
              <a:gd name="textAreaLeft" fmla="*/ 68040 w 298440"/>
              <a:gd name="textAreaRight" fmla="*/ 230400 w 298440"/>
              <a:gd name="textAreaTop" fmla="*/ 96840 h 425160"/>
              <a:gd name="textAreaBottom" fmla="*/ 328320 h 425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71560" y="2890800"/>
            <a:ext cx="298440" cy="425520"/>
          </a:xfrm>
          <a:custGeom>
            <a:avLst/>
            <a:gdLst>
              <a:gd name="textAreaLeft" fmla="*/ 68040 w 298440"/>
              <a:gd name="textAreaRight" fmla="*/ 230400 w 298440"/>
              <a:gd name="textAreaTop" fmla="*/ 97200 h 425520"/>
              <a:gd name="textAreaBottom" fmla="*/ 328320 h 42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71560" y="4232160"/>
            <a:ext cx="298440" cy="425520"/>
          </a:xfrm>
          <a:custGeom>
            <a:avLst/>
            <a:gdLst>
              <a:gd name="textAreaLeft" fmla="*/ 68040 w 298440"/>
              <a:gd name="textAreaRight" fmla="*/ 230400 w 298440"/>
              <a:gd name="textAreaTop" fmla="*/ 97200 h 425520"/>
              <a:gd name="textAreaBottom" fmla="*/ 328320 h 42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71560" y="3784680"/>
            <a:ext cx="298440" cy="425520"/>
          </a:xfrm>
          <a:custGeom>
            <a:avLst/>
            <a:gdLst>
              <a:gd name="textAreaLeft" fmla="*/ 68040 w 298440"/>
              <a:gd name="textAreaRight" fmla="*/ 230400 w 298440"/>
              <a:gd name="textAreaTop" fmla="*/ 97200 h 425520"/>
              <a:gd name="textAreaBottom" fmla="*/ 328320 h 42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4A4D-29A6-4EF2-B703-B371F358E07E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8012A8-4645-42B6-A22A-4C68AA16331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vityGrou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85800" y="1981080"/>
            <a:ext cx="361620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ityGroups group together events at same timest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e then “executes”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869000" y="2509920"/>
            <a:ext cx="3369960" cy="0"/>
          </a:xfrm>
          <a:prstGeom prst="line">
            <a:avLst/>
          </a:prstGeom>
          <a:ln w="50760">
            <a:solidFill>
              <a:srgbClr val="b2b2b2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310360" y="2403360"/>
            <a:ext cx="228600" cy="22860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91360" y="2397240"/>
            <a:ext cx="228600" cy="22860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284880" y="2390760"/>
            <a:ext cx="228600" cy="22860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407280" y="2476440"/>
            <a:ext cx="0" cy="811440"/>
          </a:xfrm>
          <a:prstGeom prst="line">
            <a:avLst/>
          </a:prstGeom>
          <a:ln w="50760">
            <a:solidFill>
              <a:srgbClr val="99cc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400800" y="3317760"/>
            <a:ext cx="0" cy="669960"/>
          </a:xfrm>
          <a:prstGeom prst="line">
            <a:avLst/>
          </a:prstGeom>
          <a:ln w="50760">
            <a:solidFill>
              <a:srgbClr val="99cc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182200" y="190512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111000" y="191628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109640" y="194616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830840" y="248904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780240" y="248112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448320" y="2994120"/>
            <a:ext cx="15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bug sleep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478200" y="3657600"/>
            <a:ext cx="164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food grow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672080" y="391176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5A17-07DD-4086-B9EC-2CEE9DA5C977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BBB47E-28FF-4073-83CB-6EA2619C7B2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85800" y="1592280"/>
            <a:ext cx="7772400" cy="43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1=[Schedule createBeg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schedule1 setRepeatInterval: 2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1=[schedule1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schedule1 at: 1 createActionTo: bug message: M(eat)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Group=[ActionGroup createBeg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ctionGroup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ctionGroup createActionTo: bug message: M(sleep)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ctionGroup createActionTo: food message: M(grow)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2=[Schedule createBeg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2=[schedule2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schedule2 at: 2 createAction: actionGroup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7961400" y="1816200"/>
            <a:ext cx="1440" cy="4608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rot="5373600">
            <a:off x="7841880" y="26575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rot="5373600">
            <a:off x="7846560" y="559440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rot="5373600">
            <a:off x="7846560" y="3790800"/>
            <a:ext cx="228600" cy="22860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090640" y="209232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136720" y="363708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128800" y="541512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09480" y="3352680"/>
            <a:ext cx="6019920" cy="2743200"/>
          </a:xfrm>
          <a:prstGeom prst="rect">
            <a:avLst/>
          </a:prstGeom>
          <a:noFill/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09480" y="1600200"/>
            <a:ext cx="6019920" cy="1600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3"/>
            <a:endCxn id="222" idx="4"/>
          </p:cNvCxnSpPr>
          <p:nvPr/>
        </p:nvCxnSpPr>
        <p:spPr>
          <a:xfrm>
            <a:off x="6638400" y="2400120"/>
            <a:ext cx="1204200" cy="371880"/>
          </a:xfrm>
          <a:prstGeom prst="bentConnector3">
            <a:avLst>
              <a:gd name="adj1" fmla="val 49461"/>
            </a:avLst>
          </a:prstGeom>
          <a:ln w="38160">
            <a:solidFill>
              <a:srgbClr val="ff0000"/>
            </a:solidFill>
            <a:miter/>
          </a:ln>
        </p:spPr>
      </p:cxnSp>
      <p:cxnSp>
        <p:nvCxnSpPr>
          <p:cNvPr id="231" name=""/>
          <p:cNvCxnSpPr>
            <a:stCxn id="229" idx="3"/>
            <a:endCxn id="223" idx="4"/>
          </p:cNvCxnSpPr>
          <p:nvPr/>
        </p:nvCxnSpPr>
        <p:spPr>
          <a:xfrm>
            <a:off x="6638760" y="2400120"/>
            <a:ext cx="1208880" cy="3308760"/>
          </a:xfrm>
          <a:prstGeom prst="bentConnector3">
            <a:avLst>
              <a:gd name="adj1" fmla="val 14566"/>
            </a:avLst>
          </a:prstGeom>
          <a:ln w="38160">
            <a:solidFill>
              <a:srgbClr val="ff0000"/>
            </a:solidFill>
            <a:miter/>
          </a:ln>
        </p:spPr>
      </p:cxnSp>
      <p:cxnSp>
        <p:nvCxnSpPr>
          <p:cNvPr id="232" name=""/>
          <p:cNvCxnSpPr>
            <a:stCxn id="228" idx="3"/>
            <a:endCxn id="224" idx="4"/>
          </p:cNvCxnSpPr>
          <p:nvPr/>
        </p:nvCxnSpPr>
        <p:spPr>
          <a:xfrm flipV="1">
            <a:off x="6638760" y="3904560"/>
            <a:ext cx="1208880" cy="819720"/>
          </a:xfrm>
          <a:prstGeom prst="bentConnector3">
            <a:avLst>
              <a:gd name="adj1" fmla="val 49538"/>
            </a:avLst>
          </a:prstGeom>
          <a:ln w="50760">
            <a:solidFill>
              <a:srgbClr val="99cc00"/>
            </a:solidFill>
            <a:miter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345D-A600-462F-9D2E-C8F97AADF692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4EBD81-32BA-4142-A552-AF59558EF4E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V: Activating the Sw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activateIn: (id) swarmContext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uper activateIn: swarmContext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chedule activate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[self getActivity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6C8A-213C-420E-8C7C-7A2DEEE8C8E9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A033CC-33F7-487F-8E8B-FEFE1BAC2AA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2819520" y="4800600"/>
            <a:ext cx="5562360" cy="9144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276720" y="3429000"/>
            <a:ext cx="5333760" cy="9907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vation of schedule(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57200" y="2286000"/>
            <a:ext cx="6019920" cy="9907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440" y="2590920"/>
            <a:ext cx="5638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main.m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modelSwarm activateIn: nil]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811680" y="3733920"/>
            <a:ext cx="47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125880" y="5029200"/>
            <a:ext cx="505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chedule activateIn: self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2" name=""/>
          <p:cNvCxnSpPr/>
          <p:nvPr/>
        </p:nvCxnSpPr>
        <p:spPr>
          <a:xfrm>
            <a:off x="6171840" y="2971800"/>
            <a:ext cx="762840" cy="8388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3" name=""/>
          <p:cNvCxnSpPr/>
          <p:nvPr/>
        </p:nvCxnSpPr>
        <p:spPr>
          <a:xfrm flipH="1" rot="16200000">
            <a:off x="6742800" y="4305240"/>
            <a:ext cx="991440" cy="610200"/>
          </a:xfrm>
          <a:prstGeom prst="curvedConnector5">
            <a:avLst>
              <a:gd name="adj1" fmla="val 49981"/>
              <a:gd name="adj2" fmla="val 50000"/>
              <a:gd name="adj3" fmla="val 49981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410080" y="1523880"/>
            <a:ext cx="3353040" cy="1447920"/>
          </a:xfrm>
          <a:prstGeom prst="ellipse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is only 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 so we activa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n n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04920" y="3276720"/>
            <a:ext cx="3733560" cy="1981080"/>
          </a:xfrm>
          <a:prstGeom prst="ellipse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one line could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motion complex sche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merging and acti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48B2-A9B0-49A3-AFB0-75D0E160FA94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044ADD-CE3F-4AE7-A953-BEF00E95604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4876920" y="4191120"/>
            <a:ext cx="1371600" cy="137160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Swarm II: More bu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048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manage more than one bug ad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ld, a Grid2d instance that enforces one bug per 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List, to keep track of bugs as a 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486400" y="1981080"/>
            <a:ext cx="1219320" cy="533520"/>
          </a:xfrm>
          <a:prstGeom prst="flowChartDocumen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400800" y="4114800"/>
            <a:ext cx="1371600" cy="13716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832280" y="2562120"/>
            <a:ext cx="227016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 rot="10777800">
            <a:off x="6857280" y="3733920"/>
            <a:ext cx="457200" cy="38088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019920" y="2362320"/>
            <a:ext cx="212760" cy="423720"/>
          </a:xfrm>
          <a:prstGeom prst="downArrow">
            <a:avLst>
              <a:gd name="adj1" fmla="val 50000"/>
              <a:gd name="adj2" fmla="val 49788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2514600"/>
            <a:ext cx="650880" cy="650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934320" y="2590920"/>
            <a:ext cx="307800" cy="271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rot="17683800">
            <a:off x="3026160" y="4440960"/>
            <a:ext cx="2486160" cy="46224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0" y="3809880"/>
            <a:ext cx="343080" cy="34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715000" y="38862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267080" y="4267080"/>
            <a:ext cx="343080" cy="3445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038480" y="4648320"/>
            <a:ext cx="343080" cy="342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809880" y="5105520"/>
            <a:ext cx="343080" cy="342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rot="10762200">
            <a:off x="4572000" y="3352320"/>
            <a:ext cx="457200" cy="381240"/>
          </a:xfrm>
          <a:custGeom>
            <a:avLst/>
            <a:gdLst>
              <a:gd name="textAreaLeft" fmla="*/ 152280 w 457200"/>
              <a:gd name="textAreaRight" fmla="*/ 391680 w 45720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038840" y="556272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2CBF-640D-4286-BDCF-E500E2DF25AD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4AF502-E934-4199-BE5E-AED21D1EAE6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4495680" y="3733920"/>
            <a:ext cx="4040280" cy="609480"/>
          </a:xfrm>
          <a:prstGeom prst="rect">
            <a:avLst/>
          </a:prstGeom>
          <a:solidFill>
            <a:srgbClr val="99ff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95680" y="4419720"/>
            <a:ext cx="404028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a population of ag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500720" y="1827360"/>
            <a:ext cx="4038480" cy="5824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498920" y="5519880"/>
            <a:ext cx="4040280" cy="5824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498920" y="3352680"/>
            <a:ext cx="4040280" cy="30492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85800" y="1981080"/>
            <a:ext cx="3244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 collection objects (Grid2d, List) to keep track of 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for loop create each instance &amp; initial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 put each agent on list,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224240" y="1981080"/>
            <a:ext cx="4233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(create world)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bugList=[List create: [self getZone]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for(y=0;y&lt;worldYSize;y++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for(x=0;x&lt;worldXSize;x++)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f([uniformDblRand .] &lt;=bugDensity){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aBug = [Bug createBegin: self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[aBug setWorld: world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Food: foodSpace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[aBug setX: x Y: y];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aBug = [aBug createEnd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[world putObject: aBug atX: x Y: y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[bugList addLast: aBug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114800" y="3276720"/>
            <a:ext cx="304920" cy="1981080"/>
          </a:xfrm>
          <a:custGeom>
            <a:avLst/>
            <a:gdLst>
              <a:gd name="textAreaLeft" fmla="*/ 194760 w 304920"/>
              <a:gd name="textAreaRight" fmla="*/ 305280 w 304920"/>
              <a:gd name="textAreaTop" fmla="*/ 51480 h 1981080"/>
              <a:gd name="textAreaBottom" fmla="*/ 1929600 h 19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760"/>
                </a:lnTo>
                <a:cubicBezTo>
                  <a:pt x="10800" y="9660"/>
                  <a:pt x="5400" y="10560"/>
                  <a:pt x="0" y="10560"/>
                </a:cubicBezTo>
                <a:cubicBezTo>
                  <a:pt x="5400" y="10560"/>
                  <a:pt x="10800" y="11460"/>
                  <a:pt x="10800" y="1236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157640" y="5442120"/>
            <a:ext cx="262080" cy="669600"/>
          </a:xfrm>
          <a:custGeom>
            <a:avLst/>
            <a:gdLst>
              <a:gd name="textAreaLeft" fmla="*/ 167400 w 262080"/>
              <a:gd name="textAreaRight" fmla="*/ 262440 w 262080"/>
              <a:gd name="textAreaTop" fmla="*/ 17280 h 669600"/>
              <a:gd name="textAreaBottom" fmla="*/ 652320 h 669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760"/>
                </a:lnTo>
                <a:cubicBezTo>
                  <a:pt x="10800" y="9660"/>
                  <a:pt x="5400" y="10560"/>
                  <a:pt x="0" y="10560"/>
                </a:cubicBezTo>
                <a:cubicBezTo>
                  <a:pt x="5400" y="10560"/>
                  <a:pt x="10800" y="11460"/>
                  <a:pt x="10800" y="1236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157640" y="1785960"/>
            <a:ext cx="262080" cy="669960"/>
          </a:xfrm>
          <a:custGeom>
            <a:avLst/>
            <a:gdLst>
              <a:gd name="textAreaLeft" fmla="*/ 167400 w 262080"/>
              <a:gd name="textAreaRight" fmla="*/ 262440 w 262080"/>
              <a:gd name="textAreaTop" fmla="*/ 17280 h 669960"/>
              <a:gd name="textAreaBottom" fmla="*/ 652680 h 669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760"/>
                </a:lnTo>
                <a:cubicBezTo>
                  <a:pt x="10800" y="9660"/>
                  <a:pt x="5400" y="10560"/>
                  <a:pt x="0" y="10560"/>
                </a:cubicBezTo>
                <a:cubicBezTo>
                  <a:pt x="5400" y="10560"/>
                  <a:pt x="10800" y="11460"/>
                  <a:pt x="10800" y="1236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641760" y="1886040"/>
            <a:ext cx="369720" cy="442800"/>
          </a:xfrm>
          <a:custGeom>
            <a:avLst/>
            <a:gdLst>
              <a:gd name="textAreaLeft" fmla="*/ 84240 w 369720"/>
              <a:gd name="textAreaRight" fmla="*/ 285480 w 36972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657600" y="4038480"/>
            <a:ext cx="369720" cy="443160"/>
          </a:xfrm>
          <a:custGeom>
            <a:avLst/>
            <a:gdLst>
              <a:gd name="textAreaLeft" fmla="*/ 84240 w 369720"/>
              <a:gd name="textAreaRight" fmla="*/ 285480 w 3697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643200" y="5541840"/>
            <a:ext cx="370080" cy="44316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3192-129D-4842-836D-EC47FFE52094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5FEF75-3EBD-4F66-BA5F-5AB8D31F986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vity and colle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now have a collection of agents - bu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e now takes as target the collection object - a List ins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ollection object passes on the message to each bu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49568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buildActions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delActions = [ActionGroup create: self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[modelActions createActionForEach: bugList                                                    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message: M(step)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[modelActions createActionTo:  reportBug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  message: M(report)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delSchedule = [Schedule createBegin: self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[modelSchedule setRepeatInterval: 1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delSchedule = [modelSchedule createEnd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[modelSchedule at: 0 createAction: modelActions]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turn self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33C0-17AF-42D1-A219-BBD6C4EC81F9}" type="slidenum">
              <a:t>29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0750B8-EF4F-43F7-B4B7-23A32472B17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s in Simplebug tu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CBu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 C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ObjCBu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 is now Objective-C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ObjCBug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s grid holding 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SwarmBu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s a 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SwarmBug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bug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SwarmBug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s parameters from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ObserverBu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s ObserverSwarm &amp;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ObserverBug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s more sophisticated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ExperBu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s multiple experi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B78E-16CF-485B-BA5E-47967FE706A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BC0D1D-9C3C-48BD-8E60-A5CA494A96E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5029200" y="2895480"/>
            <a:ext cx="2514600" cy="1371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029200" y="2451240"/>
            <a:ext cx="2514600" cy="368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029200" y="4295880"/>
            <a:ext cx="2514600" cy="3524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odel.setup fi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@beg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orldXSize 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orldYSize 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edProb 0.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ugDensity 0.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@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Loader nee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rget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me of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Swarm III: Loading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Load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s values of ivars from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Sav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ites values of ivars to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 instance vars not mentioned in infile unchang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238880" y="4038480"/>
            <a:ext cx="1067040" cy="381240"/>
          </a:xfrm>
          <a:prstGeom prst="wedgeRectCallout">
            <a:avLst>
              <a:gd name="adj1" fmla="val -76787"/>
              <a:gd name="adj2" fmla="val 85833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238880" y="2438280"/>
            <a:ext cx="1067040" cy="381240"/>
          </a:xfrm>
          <a:prstGeom prst="wedgeRectCallout">
            <a:avLst>
              <a:gd name="adj1" fmla="val -89287"/>
              <a:gd name="adj2" fmla="val 10833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A858-B61E-488E-97BA-61FFC03B37B0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6231FE-9599-418E-8EB6-157AD8E1D50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4800600" y="2057400"/>
            <a:ext cx="380988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85800" y="2057400"/>
            <a:ext cx="388620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715000" y="4114800"/>
            <a:ext cx="1111320" cy="1143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with Observer: Adding GU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800600" y="1752480"/>
            <a:ext cx="1219320" cy="533520"/>
          </a:xfrm>
          <a:prstGeom prst="flowChartDocumen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505320" y="4495680"/>
            <a:ext cx="1110960" cy="11145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438280" y="2743200"/>
            <a:ext cx="1676520" cy="1219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590920" y="251460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819520" y="2590920"/>
            <a:ext cx="215640" cy="190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373760" y="3898800"/>
            <a:ext cx="1094760" cy="1838880"/>
            <a:chOff x="1373760" y="3898800"/>
            <a:chExt cx="1094760" cy="1838880"/>
          </a:xfrm>
        </p:grpSpPr>
        <p:sp>
          <p:nvSpPr>
            <p:cNvPr id="299" name=""/>
            <p:cNvSpPr/>
            <p:nvPr/>
          </p:nvSpPr>
          <p:spPr>
            <a:xfrm rot="17683800">
              <a:off x="988560" y="4645080"/>
              <a:ext cx="1865160" cy="34632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148120" y="4171680"/>
              <a:ext cx="257040" cy="2570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919160" y="4514760"/>
              <a:ext cx="257040" cy="25812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747800" y="4800960"/>
              <a:ext cx="257040" cy="2570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600200" y="5122080"/>
              <a:ext cx="257040" cy="2570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4" name=""/>
          <p:cNvSpPr/>
          <p:nvPr/>
        </p:nvSpPr>
        <p:spPr>
          <a:xfrm>
            <a:off x="2134080" y="495288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724280" y="2666880"/>
            <a:ext cx="1676520" cy="12193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362320" y="4267080"/>
            <a:ext cx="1110960" cy="111456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124080" y="38862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rot="10762200">
            <a:off x="2286000" y="3657600"/>
            <a:ext cx="457200" cy="380880"/>
          </a:xfrm>
          <a:custGeom>
            <a:avLst/>
            <a:gdLst>
              <a:gd name="textAreaLeft" fmla="*/ 152280 w 457200"/>
              <a:gd name="textAreaRight" fmla="*/ 39168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H="1" rot="10777800">
            <a:off x="6095160" y="3733920"/>
            <a:ext cx="457200" cy="38088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791320" y="251460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019920" y="2590920"/>
            <a:ext cx="215640" cy="190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334120" y="36576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181480" y="42670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629400" y="3048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553080" y="4724280"/>
            <a:ext cx="533520" cy="5335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952880" y="541008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2dDisp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552720" y="3733920"/>
            <a:ext cx="224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2dDisp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010280" y="5181480"/>
            <a:ext cx="14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or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9" name=""/>
          <p:cNvCxnSpPr>
            <a:stCxn id="316" idx="0"/>
            <a:endCxn id="313" idx="4"/>
          </p:cNvCxnSpPr>
          <p:nvPr/>
        </p:nvCxnSpPr>
        <p:spPr>
          <a:xfrm flipV="1" rot="16200000">
            <a:off x="5436720" y="4810680"/>
            <a:ext cx="610200" cy="588240"/>
          </a:xfrm>
          <a:prstGeom prst="curvedConnector5">
            <a:avLst>
              <a:gd name="adj1" fmla="val 50000"/>
              <a:gd name="adj2" fmla="val 49969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diamond" w="med"/>
            <a:tailEnd len="med" type="triangle" w="med"/>
          </a:ln>
        </p:spPr>
      </p:cxnSp>
      <p:cxnSp>
        <p:nvCxnSpPr>
          <p:cNvPr id="320" name=""/>
          <p:cNvCxnSpPr>
            <a:stCxn id="317" idx="0"/>
            <a:endCxn id="314" idx="5"/>
          </p:cNvCxnSpPr>
          <p:nvPr/>
        </p:nvCxnSpPr>
        <p:spPr>
          <a:xfrm flipV="1" rot="16200000">
            <a:off x="7265520" y="3322080"/>
            <a:ext cx="231120" cy="592560"/>
          </a:xfrm>
          <a:prstGeom prst="curvedConnector5">
            <a:avLst>
              <a:gd name="adj1" fmla="val 33073"/>
              <a:gd name="adj2" fmla="val 49969"/>
              <a:gd name="adj3" fmla="val 33073"/>
            </a:avLst>
          </a:prstGeom>
          <a:ln w="9360">
            <a:solidFill>
              <a:srgbClr val="000000"/>
            </a:solidFill>
            <a:miter/>
            <a:headEnd len="med" type="diamond" w="med"/>
            <a:tailEnd len="med" type="triangle" w="med"/>
          </a:ln>
        </p:spPr>
      </p:cxnSp>
      <p:cxnSp>
        <p:nvCxnSpPr>
          <p:cNvPr id="321" name=""/>
          <p:cNvCxnSpPr>
            <a:stCxn id="318" idx="0"/>
            <a:endCxn id="315" idx="6"/>
          </p:cNvCxnSpPr>
          <p:nvPr/>
        </p:nvCxnSpPr>
        <p:spPr>
          <a:xfrm flipV="1" rot="16200000">
            <a:off x="7303320" y="4772880"/>
            <a:ext cx="191160" cy="6260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 rot="16200000">
            <a:off x="6422040" y="287388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H="1" rot="5400000">
            <a:off x="4152960" y="2552760"/>
            <a:ext cx="380880" cy="914400"/>
          </a:xfrm>
          <a:prstGeom prst="downArrow">
            <a:avLst>
              <a:gd name="adj1" fmla="val 50000"/>
              <a:gd name="adj2" fmla="val 6001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213372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727F-8E93-4C8A-8C6E-B0C67FDB24AF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4009EF-7B09-4A2A-99DC-DD1DCB6F493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an ObserverSw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Begin,createE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memory and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ild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graphs, rasters and 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ild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order and timing of GUI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7104-F4BA-40F8-89B2-B682A734C116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C63487-BC9C-4D75-8AE1-98B3B55B37C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: Initializ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+ createBegin: aZone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serverSwarm *obj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 = [super createBegin: a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displayFrequency =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obj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CB1A-3883-48EE-9952-1B54A55ED130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DD134B-660F-4DAD-AB7C-2DF4681A612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I: Creating obj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 buildObjects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uper buildObjects]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delSwarm = [ModelSwarm create: self];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controlPanel setStateStoppe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warm buildObjects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Colorma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Ras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foodDispla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bugDispla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sel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267080" y="4114800"/>
            <a:ext cx="2971800" cy="76212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ldfaced items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placehol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7368-4F2C-4D78-84DD-AE8E803B537D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70A53A-D34C-4695-BCD4-801FE355009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838080" y="3505320"/>
            <a:ext cx="7467840" cy="137160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838080" y="3124080"/>
            <a:ext cx="7467840" cy="304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II: Building sched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838080" y="5486400"/>
            <a:ext cx="7467840" cy="30492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838080" y="5105520"/>
            <a:ext cx="7467840" cy="3045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buildActions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uper buildActions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warm buildActions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ActionGrou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foodDisplay ac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bugDisplay ac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worldRaster ac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GUI update ac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Schedu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action to ActionGrou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self;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C357-CA87-4811-9F40-A50FDE5F65B1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5E50F7-AD17-4EE6-A5B0-6593044705B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V: Activating the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 activateIn: swarmContext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uper activateIn: swarmContext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warm activate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displaySchedule activate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[self getSwarmActivity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1A5E-EB0F-497E-87B9-85BEF2C79571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613F82-2670-40C9-9552-73B0181AE13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1828800" y="4343400"/>
            <a:ext cx="3886200" cy="1295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962520" y="4267080"/>
            <a:ext cx="380880" cy="2286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200400" y="3581280"/>
            <a:ext cx="2819520" cy="9907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952880" y="3352680"/>
            <a:ext cx="381240" cy="2286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gration of Swarm activ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609480" y="1905120"/>
            <a:ext cx="2063880" cy="2347560"/>
            <a:chOff x="609480" y="1905120"/>
            <a:chExt cx="2063880" cy="2347560"/>
          </a:xfrm>
        </p:grpSpPr>
        <p:sp>
          <p:nvSpPr>
            <p:cNvPr id="346" name=""/>
            <p:cNvSpPr/>
            <p:nvPr/>
          </p:nvSpPr>
          <p:spPr>
            <a:xfrm>
              <a:off x="1676520" y="1954800"/>
              <a:ext cx="928800" cy="68400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70320" y="3306960"/>
              <a:ext cx="1927440" cy="45720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70320" y="2740680"/>
              <a:ext cx="1927440" cy="4572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68520" y="1954800"/>
              <a:ext cx="929880" cy="68400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803880" y="3422880"/>
              <a:ext cx="14925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perating Syste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988560" y="2863800"/>
              <a:ext cx="11800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warm kern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963000" y="2369880"/>
              <a:ext cx="4564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875960" y="2352960"/>
              <a:ext cx="6253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od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09480" y="1905120"/>
              <a:ext cx="2063880" cy="132948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542240" y="2201400"/>
              <a:ext cx="2426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564560" y="2399760"/>
              <a:ext cx="2566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71120" y="1994400"/>
              <a:ext cx="543960" cy="3866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834120" y="2025360"/>
              <a:ext cx="417600" cy="314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875520" y="2098800"/>
              <a:ext cx="355320" cy="198360"/>
            </a:xfrm>
            <a:custGeom>
              <a:avLst/>
              <a:gdLst/>
              <a:ahLst/>
              <a:rect l="l" t="t" r="r" b="b"/>
              <a:pathLst>
                <a:path w="378" h="211">
                  <a:moveTo>
                    <a:pt x="0" y="211"/>
                  </a:moveTo>
                  <a:cubicBezTo>
                    <a:pt x="22" y="179"/>
                    <a:pt x="28" y="149"/>
                    <a:pt x="56" y="122"/>
                  </a:cubicBezTo>
                  <a:cubicBezTo>
                    <a:pt x="57" y="119"/>
                    <a:pt x="73" y="47"/>
                    <a:pt x="100" y="67"/>
                  </a:cubicBezTo>
                  <a:cubicBezTo>
                    <a:pt x="115" y="78"/>
                    <a:pt x="105" y="104"/>
                    <a:pt x="111" y="122"/>
                  </a:cubicBezTo>
                  <a:cubicBezTo>
                    <a:pt x="116" y="135"/>
                    <a:pt x="127" y="144"/>
                    <a:pt x="133" y="156"/>
                  </a:cubicBezTo>
                  <a:cubicBezTo>
                    <a:pt x="138" y="166"/>
                    <a:pt x="141" y="178"/>
                    <a:pt x="145" y="189"/>
                  </a:cubicBezTo>
                  <a:cubicBezTo>
                    <a:pt x="202" y="151"/>
                    <a:pt x="211" y="89"/>
                    <a:pt x="278" y="67"/>
                  </a:cubicBezTo>
                  <a:cubicBezTo>
                    <a:pt x="295" y="13"/>
                    <a:pt x="307" y="36"/>
                    <a:pt x="345" y="0"/>
                  </a:cubicBezTo>
                  <a:cubicBezTo>
                    <a:pt x="356" y="4"/>
                    <a:pt x="378" y="11"/>
                    <a:pt x="378" y="1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837440" y="2182680"/>
              <a:ext cx="145800" cy="1454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242080" y="2012040"/>
              <a:ext cx="145800" cy="1458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092680" y="2217240"/>
              <a:ext cx="145800" cy="1454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63" name=""/>
            <p:cNvCxnSpPr>
              <a:stCxn id="362" idx="1"/>
              <a:endCxn id="360" idx="5"/>
            </p:cNvCxnSpPr>
            <p:nvPr/>
          </p:nvCxnSpPr>
          <p:spPr>
            <a:xfrm flipH="1">
              <a:off x="1960920" y="2238840"/>
              <a:ext cx="153000" cy="68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64" name=""/>
            <p:cNvCxnSpPr>
              <a:stCxn id="360" idx="7"/>
              <a:endCxn id="361" idx="2"/>
            </p:cNvCxnSpPr>
            <p:nvPr/>
          </p:nvCxnSpPr>
          <p:spPr>
            <a:xfrm flipH="1" flipV="1" rot="5400000">
              <a:off x="2041920" y="2004120"/>
              <a:ext cx="11916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65" name=""/>
            <p:cNvCxnSpPr>
              <a:stCxn id="362" idx="6"/>
              <a:endCxn id="361" idx="5"/>
            </p:cNvCxnSpPr>
            <p:nvPr/>
          </p:nvCxnSpPr>
          <p:spPr>
            <a:xfrm flipV="1">
              <a:off x="2238120" y="2135520"/>
              <a:ext cx="128520" cy="155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366" name=""/>
            <p:cNvSpPr/>
            <p:nvPr/>
          </p:nvSpPr>
          <p:spPr>
            <a:xfrm>
              <a:off x="666720" y="3795480"/>
              <a:ext cx="1927440" cy="45720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383480" y="3868920"/>
              <a:ext cx="5065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P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823680" y="259560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793160" y="259560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445040" y="314604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416600" y="3641400"/>
              <a:ext cx="126000" cy="250920"/>
            </a:xfrm>
            <a:prstGeom prst="downArrow">
              <a:avLst>
                <a:gd name="adj1" fmla="val 50000"/>
                <a:gd name="adj2" fmla="val 49786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1218240" y="259560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2240280" y="259560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V="1">
              <a:off x="1748160" y="314604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1754640" y="3640680"/>
              <a:ext cx="126000" cy="250920"/>
            </a:xfrm>
            <a:prstGeom prst="downArrow">
              <a:avLst>
                <a:gd name="adj1" fmla="val 50000"/>
                <a:gd name="adj2" fmla="val 49786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6" name=""/>
          <p:cNvSpPr/>
          <p:nvPr/>
        </p:nvSpPr>
        <p:spPr>
          <a:xfrm>
            <a:off x="4114800" y="2666880"/>
            <a:ext cx="2819520" cy="990720"/>
          </a:xfrm>
          <a:prstGeom prst="ellipse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867280" y="2438280"/>
            <a:ext cx="381240" cy="2286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334120" y="1828800"/>
            <a:ext cx="2819160" cy="9907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783120" y="297180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-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325200" y="373392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63440" y="457200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334120" y="5410080"/>
            <a:ext cx="188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2854-46EC-4EBE-84D4-E735AC658222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D47650-4E5F-45C6-8F7C-035274F2B75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3809880" y="3352680"/>
            <a:ext cx="4800600" cy="12956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evel acti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200400" y="2590920"/>
            <a:ext cx="5334120" cy="99036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80880" y="1752480"/>
            <a:ext cx="6019920" cy="9907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735360" y="2895480"/>
            <a:ext cx="47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040280" y="3657600"/>
            <a:ext cx="444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chedule activateIn: self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ubSwarm activate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9" name=""/>
          <p:cNvCxnSpPr/>
          <p:nvPr/>
        </p:nvCxnSpPr>
        <p:spPr>
          <a:xfrm>
            <a:off x="4723920" y="2361960"/>
            <a:ext cx="305640" cy="68652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90" name=""/>
          <p:cNvSpPr/>
          <p:nvPr/>
        </p:nvSpPr>
        <p:spPr>
          <a:xfrm>
            <a:off x="609480" y="20574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 main.m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topSwarm activateIn: nil];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28600" y="5029200"/>
            <a:ext cx="5334120" cy="990720"/>
          </a:xfrm>
          <a:prstGeom prst="ellipse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914400" y="4495680"/>
            <a:ext cx="5334120" cy="609840"/>
          </a:xfrm>
          <a:prstGeom prst="ellipse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144800" y="4648320"/>
            <a:ext cx="47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39880" y="5334120"/>
            <a:ext cx="429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chedule activateIn: self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5" name=""/>
          <p:cNvCxnSpPr/>
          <p:nvPr/>
        </p:nvCxnSpPr>
        <p:spPr>
          <a:xfrm flipV="1" rot="10800000">
            <a:off x="4571280" y="4343040"/>
            <a:ext cx="956520" cy="45792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6" name=""/>
          <p:cNvCxnSpPr>
            <a:endCxn id="388" idx="0"/>
          </p:cNvCxnSpPr>
          <p:nvPr/>
        </p:nvCxnSpPr>
        <p:spPr>
          <a:xfrm>
            <a:off x="5334120" y="3276720"/>
            <a:ext cx="930960" cy="3816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7" name=""/>
          <p:cNvCxnSpPr/>
          <p:nvPr/>
        </p:nvCxnSpPr>
        <p:spPr>
          <a:xfrm flipV="1" rot="10800000">
            <a:off x="2742480" y="5105160"/>
            <a:ext cx="747000" cy="3816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91A9-7A96-475E-BA35-C52D83564114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57F5C3-3A68-486A-8882-2946446D9E7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rging two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( ) creates ObserverSw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serverSwarm creates ModelSwarm as a subswarm in own memory z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Swarm creates agents and activates self in ObserverSw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886200" y="1752480"/>
            <a:ext cx="4800600" cy="251460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800600" y="4343400"/>
            <a:ext cx="3581280" cy="182880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297680" y="2217600"/>
            <a:ext cx="320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modelSwarm create: self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modelSwarm buildObjects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modelSwarm buildActions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[modelSwarm activateIn: self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3" name=""/>
          <p:cNvCxnSpPr/>
          <p:nvPr/>
        </p:nvCxnSpPr>
        <p:spPr>
          <a:xfrm flipH="1" rot="16200000">
            <a:off x="6048360" y="3120840"/>
            <a:ext cx="853200" cy="1977120"/>
          </a:xfrm>
          <a:prstGeom prst="bentConnector3">
            <a:avLst>
              <a:gd name="adj1" fmla="val 34233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04" name=""/>
          <p:cNvSpPr/>
          <p:nvPr/>
        </p:nvSpPr>
        <p:spPr>
          <a:xfrm>
            <a:off x="5259240" y="4495680"/>
            <a:ext cx="28796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ate: aZon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buildObject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buildAction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activateIn: swarmContex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621920" y="3962520"/>
            <a:ext cx="101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344840" y="579132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04A6-F23E-45B9-AFA6-466B36F4AA31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5AE75F-5DFB-4548-8A78-3F2F8933131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057400" y="1981080"/>
            <a:ext cx="5791320" cy="2286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057400" y="1676520"/>
            <a:ext cx="5791320" cy="2286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57400" y="3200400"/>
            <a:ext cx="5791320" cy="2286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057400" y="4191120"/>
            <a:ext cx="5791320" cy="53316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059200" y="1494000"/>
            <a:ext cx="5819400" cy="55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#import &lt;simtools.h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void main (int argc, const char **argv)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t worldXSize = 80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/ Maximum X 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t worldYSize = 80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/ Maximum Y 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t xPos = 40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/ Bug's starting posi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t yPos = 4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t i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itSwarm(argc,argv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printf("I started at X = %d Y = %d \n\n", xPos, yPo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for(i = 0; i &lt; 100; i++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/ Random movement in X and Y (possibly 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xPos = xPos + [uniformIntRand getIntegerWithMin: -1 withMax: 1]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yPos = yPos + [uniformIntRand getIntegerWithMin: -1 withMax: 1]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/ Take move modulo maximum coordinate valu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xPos = (xPos+ worldXSize) % worldXSize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yPos = (yPos + worldYSize) % worldYSize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printf( "I moved to X = %d Y = %d \n", xPos, yPo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38360" y="1523880"/>
            <a:ext cx="374760" cy="405000"/>
          </a:xfrm>
          <a:custGeom>
            <a:avLst/>
            <a:gdLst>
              <a:gd name="textAreaLeft" fmla="*/ 85320 w 374760"/>
              <a:gd name="textAreaRight" fmla="*/ 289440 w 37476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638360" y="19051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38360" y="3124080"/>
            <a:ext cx="374760" cy="405000"/>
          </a:xfrm>
          <a:custGeom>
            <a:avLst/>
            <a:gdLst>
              <a:gd name="textAreaLeft" fmla="*/ 85320 w 374760"/>
              <a:gd name="textAreaRight" fmla="*/ 289440 w 37476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638360" y="41911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D3F7-49EA-4AED-86BD-2B1AF35936C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02ED32-B73D-482C-BA14-33C502BA62A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aging the Raster displ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oomRaster displays data from latt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will display the food distribution from FoodSpace and ask bugs to draw lo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addition to ZoomRaster need the 3 classes to the righ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orMap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ociates a number with a color in palet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2dDispla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ps array of x,y int data to r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2dDisplay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eds data from agents &amp; captures mousecli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8608-F7AC-4486-8BFA-A6C13D411F09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3D4EE5-D899-432F-80B5-B408AC937CD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o these new objects d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876920" y="1828800"/>
            <a:ext cx="3581280" cy="419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85800" y="3886200"/>
            <a:ext cx="1676520" cy="1752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334120" y="4114800"/>
            <a:ext cx="1143000" cy="106668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410080" y="2133720"/>
            <a:ext cx="2895840" cy="38088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7087320" y="1752480"/>
            <a:ext cx="12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g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410080" y="2666880"/>
            <a:ext cx="1067040" cy="106704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981080" y="4648320"/>
            <a:ext cx="304920" cy="304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3962520"/>
            <a:ext cx="304920" cy="3045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9" name=""/>
          <p:cNvCxnSpPr>
            <a:stCxn id="416" idx="1"/>
            <a:endCxn id="420" idx="6"/>
          </p:cNvCxnSpPr>
          <p:nvPr/>
        </p:nvCxnSpPr>
        <p:spPr>
          <a:xfrm rot="10800000">
            <a:off x="4494960" y="2780640"/>
            <a:ext cx="915120" cy="419760"/>
          </a:xfrm>
          <a:prstGeom prst="bentConnector3">
            <a:avLst>
              <a:gd name="adj1" fmla="val 499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1" name=""/>
          <p:cNvCxnSpPr/>
          <p:nvPr/>
        </p:nvCxnSpPr>
        <p:spPr>
          <a:xfrm flipV="1" rot="10800000">
            <a:off x="4494960" y="2209320"/>
            <a:ext cx="915120" cy="496080"/>
          </a:xfrm>
          <a:prstGeom prst="bentConnector3">
            <a:avLst>
              <a:gd name="adj1" fmla="val 499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2" name=""/>
          <p:cNvCxnSpPr>
            <a:stCxn id="413" idx="1"/>
            <a:endCxn id="423" idx="6"/>
          </p:cNvCxnSpPr>
          <p:nvPr/>
        </p:nvCxnSpPr>
        <p:spPr>
          <a:xfrm rot="10800000">
            <a:off x="4494960" y="4569840"/>
            <a:ext cx="839160" cy="784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993960" y="5637240"/>
            <a:ext cx="11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934320" y="4495680"/>
            <a:ext cx="1671480" cy="1557000"/>
          </a:xfrm>
          <a:prstGeom prst="borderCallout1">
            <a:avLst>
              <a:gd name="adj1" fmla="val 18750"/>
              <a:gd name="adj2" fmla="val -8333"/>
              <a:gd name="adj3" fmla="val 10513"/>
              <a:gd name="adj4" fmla="val -4271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lds x,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tion of food as array of 0,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934320" y="2819520"/>
            <a:ext cx="1671480" cy="1557000"/>
          </a:xfrm>
          <a:prstGeom prst="borderCallout1">
            <a:avLst>
              <a:gd name="adj1" fmla="val 18750"/>
              <a:gd name="adj2" fmla="val -8333"/>
              <a:gd name="adj3" fmla="val 8250"/>
              <a:gd name="adj4" fmla="val -41384"/>
            </a:avLst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lds x,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tions of bugs as array of 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743200" y="1905120"/>
            <a:ext cx="1752480" cy="17524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bject2dDispl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3733920"/>
            <a:ext cx="1752480" cy="1673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lue2dDispl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7" name=""/>
          <p:cNvCxnSpPr>
            <a:stCxn id="423" idx="2"/>
            <a:endCxn id="412" idx="3"/>
          </p:cNvCxnSpPr>
          <p:nvPr/>
        </p:nvCxnSpPr>
        <p:spPr>
          <a:xfrm flipV="1" rot="10800000">
            <a:off x="2361600" y="4569480"/>
            <a:ext cx="381600" cy="19260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8" name=""/>
          <p:cNvCxnSpPr>
            <a:stCxn id="420" idx="3"/>
            <a:endCxn id="412" idx="0"/>
          </p:cNvCxnSpPr>
          <p:nvPr/>
        </p:nvCxnSpPr>
        <p:spPr>
          <a:xfrm rot="5400000">
            <a:off x="2018520" y="2904840"/>
            <a:ext cx="486360" cy="1477080"/>
          </a:xfrm>
          <a:prstGeom prst="bentConnector3">
            <a:avLst>
              <a:gd name="adj1" fmla="val 7644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762120" y="1905120"/>
            <a:ext cx="1371600" cy="13716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lor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0" name=""/>
          <p:cNvCxnSpPr>
            <a:stCxn id="429" idx="4"/>
            <a:endCxn id="418" idx="0"/>
          </p:cNvCxnSpPr>
          <p:nvPr/>
        </p:nvCxnSpPr>
        <p:spPr>
          <a:xfrm>
            <a:off x="1447560" y="3276360"/>
            <a:ext cx="108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1" name=""/>
          <p:cNvSpPr/>
          <p:nvPr/>
        </p:nvSpPr>
        <p:spPr>
          <a:xfrm>
            <a:off x="457200" y="1828800"/>
            <a:ext cx="4267080" cy="419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029920" y="54864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515320" y="548640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715000" y="1752480"/>
            <a:ext cx="343080" cy="34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172200" y="1828800"/>
            <a:ext cx="343080" cy="34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629400" y="1905120"/>
            <a:ext cx="343080" cy="342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7086600" y="2057400"/>
            <a:ext cx="343080" cy="34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7543800" y="2133720"/>
            <a:ext cx="343080" cy="342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FABC-AB8C-419A-85FC-233D4CF40492}" type="slidenum">
              <a:t>4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29E10C-2267-4424-92B3-28D368795D7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685800" y="2057400"/>
            <a:ext cx="388620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505320" y="4495680"/>
            <a:ext cx="1110960" cy="11145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438280" y="2743200"/>
            <a:ext cx="1676520" cy="1219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51460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3" name=""/>
          <p:cNvGrpSpPr/>
          <p:nvPr/>
        </p:nvGrpSpPr>
        <p:grpSpPr>
          <a:xfrm>
            <a:off x="1373760" y="3898800"/>
            <a:ext cx="1094760" cy="1838880"/>
            <a:chOff x="1373760" y="3898800"/>
            <a:chExt cx="1094760" cy="1838880"/>
          </a:xfrm>
        </p:grpSpPr>
        <p:sp>
          <p:nvSpPr>
            <p:cNvPr id="444" name=""/>
            <p:cNvSpPr/>
            <p:nvPr/>
          </p:nvSpPr>
          <p:spPr>
            <a:xfrm rot="17683800">
              <a:off x="988560" y="4645080"/>
              <a:ext cx="1865160" cy="3463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148120" y="4171680"/>
              <a:ext cx="257040" cy="2570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919160" y="4514760"/>
              <a:ext cx="257040" cy="25812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747800" y="4800960"/>
              <a:ext cx="257040" cy="2570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600200" y="5122080"/>
              <a:ext cx="257040" cy="2570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9" name=""/>
          <p:cNvSpPr/>
          <p:nvPr/>
        </p:nvSpPr>
        <p:spPr>
          <a:xfrm>
            <a:off x="2134080" y="495288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362320" y="4267080"/>
            <a:ext cx="1110960" cy="11145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124080" y="38862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0762200">
            <a:off x="2286000" y="3657600"/>
            <a:ext cx="457200" cy="380880"/>
          </a:xfrm>
          <a:custGeom>
            <a:avLst/>
            <a:gdLst>
              <a:gd name="textAreaLeft" fmla="*/ 152280 w 457200"/>
              <a:gd name="textAreaRight" fmla="*/ 39168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257800" y="213372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with Observer II: Add prob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800600" y="2057400"/>
            <a:ext cx="380988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715000" y="3886200"/>
            <a:ext cx="111132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724280" y="2438280"/>
            <a:ext cx="1676520" cy="12193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10777800">
            <a:off x="6095160" y="3505320"/>
            <a:ext cx="457200" cy="38088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791320" y="228600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019920" y="2362320"/>
            <a:ext cx="215640" cy="190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334120" y="34290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181480" y="4038480"/>
            <a:ext cx="533520" cy="5335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629400" y="2819520"/>
            <a:ext cx="533520" cy="5331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553080" y="4495680"/>
            <a:ext cx="533520" cy="5335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rot="16200000">
            <a:off x="6422040" y="264528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600200" y="1676520"/>
            <a:ext cx="838080" cy="13716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467480" y="1828800"/>
            <a:ext cx="838440" cy="13716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8" name=""/>
          <p:cNvCxnSpPr>
            <a:stCxn id="466" idx="3"/>
          </p:cNvCxnSpPr>
          <p:nvPr/>
        </p:nvCxnSpPr>
        <p:spPr>
          <a:xfrm>
            <a:off x="2438280" y="2362320"/>
            <a:ext cx="457920" cy="381600"/>
          </a:xfrm>
          <a:prstGeom prst="curvedConnector5">
            <a:avLst>
              <a:gd name="adj1" fmla="val 49960"/>
              <a:gd name="adj2" fmla="val 49952"/>
              <a:gd name="adj3" fmla="val 49960"/>
            </a:avLst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469" name=""/>
          <p:cNvCxnSpPr>
            <a:stCxn id="467" idx="1"/>
            <a:endCxn id="457" idx="0"/>
          </p:cNvCxnSpPr>
          <p:nvPr/>
        </p:nvCxnSpPr>
        <p:spPr>
          <a:xfrm rot="10800000">
            <a:off x="5562000" y="2438280"/>
            <a:ext cx="1905480" cy="76680"/>
          </a:xfrm>
          <a:prstGeom prst="curvedConnector5">
            <a:avLst>
              <a:gd name="adj1" fmla="val 27985"/>
              <a:gd name="adj2" fmla="val 200471"/>
              <a:gd name="adj3" fmla="val 27985"/>
            </a:avLst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470" name=""/>
          <p:cNvSpPr/>
          <p:nvPr/>
        </p:nvSpPr>
        <p:spPr>
          <a:xfrm>
            <a:off x="4800600" y="1600200"/>
            <a:ext cx="1219320" cy="533520"/>
          </a:xfrm>
          <a:prstGeom prst="flowChartDocumen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5410080" y="198108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flipH="1" rot="5400000">
            <a:off x="4174200" y="2378520"/>
            <a:ext cx="228600" cy="1109520"/>
          </a:xfrm>
          <a:prstGeom prst="downArrow">
            <a:avLst>
              <a:gd name="adj1" fmla="val 50000"/>
              <a:gd name="adj2" fmla="val 12133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819520" y="2590920"/>
            <a:ext cx="215640" cy="190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73DC-914B-4514-B77A-71D61DD022A6}" type="slidenum">
              <a:t>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705DF1-7119-44A4-9B4B-DA35D9ED050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4800600" y="2057400"/>
            <a:ext cx="365760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62120" y="2057400"/>
            <a:ext cx="380988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952880" y="2819520"/>
            <a:ext cx="1676520" cy="121896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the probes come in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2819520" y="2743200"/>
            <a:ext cx="1676160" cy="1219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9" name=""/>
          <p:cNvCxnSpPr/>
          <p:nvPr/>
        </p:nvCxnSpPr>
        <p:spPr>
          <a:xfrm flipH="1" rot="16200000">
            <a:off x="2837520" y="2952360"/>
            <a:ext cx="362520" cy="1467720"/>
          </a:xfrm>
          <a:prstGeom prst="bentConnector3">
            <a:avLst>
              <a:gd name="adj1" fmla="val 163121"/>
            </a:avLst>
          </a:prstGeom>
          <a:ln w="76320">
            <a:solidFill>
              <a:srgbClr val="b2b2b2"/>
            </a:solidFill>
            <a:miter/>
          </a:ln>
        </p:spPr>
      </p:cxnSp>
      <p:pic>
        <p:nvPicPr>
          <p:cNvPr id="480" name="modelprobe" descr=""/>
          <p:cNvPicPr/>
          <p:nvPr/>
        </p:nvPicPr>
        <p:blipFill>
          <a:blip r:embed="rId1"/>
          <a:stretch/>
        </p:blipFill>
        <p:spPr>
          <a:xfrm>
            <a:off x="1295280" y="2133720"/>
            <a:ext cx="1791000" cy="1466640"/>
          </a:xfrm>
          <a:prstGeom prst="rect">
            <a:avLst/>
          </a:prstGeom>
          <a:ln w="0">
            <a:noFill/>
          </a:ln>
        </p:spPr>
      </p:pic>
      <p:cxnSp>
        <p:nvCxnSpPr>
          <p:cNvPr id="481" name=""/>
          <p:cNvCxnSpPr/>
          <p:nvPr/>
        </p:nvCxnSpPr>
        <p:spPr>
          <a:xfrm flipH="1" flipV="1" rot="5400000">
            <a:off x="6106680" y="3111840"/>
            <a:ext cx="743760" cy="1377000"/>
          </a:xfrm>
          <a:prstGeom prst="bentConnector3">
            <a:avLst>
              <a:gd name="adj1" fmla="val -30750"/>
            </a:avLst>
          </a:prstGeom>
          <a:ln w="76320">
            <a:solidFill>
              <a:srgbClr val="b2b2b2"/>
            </a:solidFill>
            <a:miter/>
          </a:ln>
        </p:spPr>
      </p:cxnSp>
      <p:pic>
        <p:nvPicPr>
          <p:cNvPr id="482" name="observerprobe" descr=""/>
          <p:cNvPicPr/>
          <p:nvPr/>
        </p:nvPicPr>
        <p:blipFill>
          <a:blip r:embed="rId2"/>
          <a:stretch/>
        </p:blipFill>
        <p:spPr>
          <a:xfrm>
            <a:off x="6400800" y="2971800"/>
            <a:ext cx="2143080" cy="781200"/>
          </a:xfrm>
          <a:prstGeom prst="rect">
            <a:avLst/>
          </a:prstGeom>
          <a:ln w="0">
            <a:noFill/>
          </a:ln>
        </p:spPr>
      </p:pic>
      <p:cxnSp>
        <p:nvCxnSpPr>
          <p:cNvPr id="483" name=""/>
          <p:cNvCxnSpPr/>
          <p:nvPr/>
        </p:nvCxnSpPr>
        <p:spPr>
          <a:xfrm flipH="1" rot="16200000">
            <a:off x="6221160" y="3454920"/>
            <a:ext cx="910440" cy="2229480"/>
          </a:xfrm>
          <a:prstGeom prst="bentConnector2">
            <a:avLst/>
          </a:prstGeom>
          <a:ln w="76320">
            <a:solidFill>
              <a:srgbClr val="b2b2b2"/>
            </a:solidFill>
            <a:miter/>
          </a:ln>
        </p:spPr>
      </p:cxnSp>
      <p:pic>
        <p:nvPicPr>
          <p:cNvPr id="484" name="controlpanel" descr=""/>
          <p:cNvPicPr/>
          <p:nvPr/>
        </p:nvPicPr>
        <p:blipFill>
          <a:blip r:embed="rId3"/>
          <a:stretch/>
        </p:blipFill>
        <p:spPr>
          <a:xfrm>
            <a:off x="7315200" y="3809880"/>
            <a:ext cx="1123920" cy="1971720"/>
          </a:xfrm>
          <a:prstGeom prst="rect">
            <a:avLst/>
          </a:prstGeom>
          <a:ln w="0">
            <a:noFill/>
          </a:ln>
        </p:spPr>
      </p:pic>
      <p:sp>
        <p:nvSpPr>
          <p:cNvPr id="485" name=""/>
          <p:cNvSpPr/>
          <p:nvPr/>
        </p:nvSpPr>
        <p:spPr>
          <a:xfrm>
            <a:off x="1143000" y="4419720"/>
            <a:ext cx="2895480" cy="838080"/>
          </a:xfrm>
          <a:prstGeom prst="wedgeRectCallout">
            <a:avLst>
              <a:gd name="adj1" fmla="val -34046"/>
              <a:gd name="adj2" fmla="val -161365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ustom 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4 Variable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029200" y="1828800"/>
            <a:ext cx="2895480" cy="838080"/>
          </a:xfrm>
          <a:prstGeom prst="wedgeRectCallout">
            <a:avLst>
              <a:gd name="adj1" fmla="val 46217"/>
              <a:gd name="adj2" fmla="val 113634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ustom 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1 Message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648320" y="4876920"/>
            <a:ext cx="2895480" cy="761760"/>
          </a:xfrm>
          <a:prstGeom prst="wedgeRectCallout">
            <a:avLst>
              <a:gd name="adj1" fmla="val 57402"/>
              <a:gd name="adj2" fmla="val -140000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Panel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d by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B6BD-F318-4B0C-9F1A-C32CA9117D97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7A7A38-177C-461B-8E78-780F3BA3EFF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ief overview of prob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major uses for prob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interface with an objec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reate a GUI to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face with an object of two 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Probe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robes an instance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Probe:    Probes a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UI utilit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Map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ollection of Var and Message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2ACC-B087-43F6-BAFE-66C8EA1A8422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5C4340-E75B-431B-A82D-B4622C2DEE7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graphic probe to obj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out instance of EmtpyProbeMa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ach VarProbe or MessageProbe to each variable or message to appear on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 each probe on 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k probeDisplayManager  to create actual wid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257800" y="5105520"/>
            <a:ext cx="2895480" cy="99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105520" y="38862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724280" y="3581280"/>
            <a:ext cx="990720" cy="990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105520" y="29718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095880" y="38862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715000" y="3352680"/>
            <a:ext cx="990720" cy="990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410080" y="289548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735360" y="4572000"/>
            <a:ext cx="14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162920" y="38862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781680" y="3276720"/>
            <a:ext cx="990720" cy="9903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943600" y="29718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876920" y="2209680"/>
            <a:ext cx="1904760" cy="14479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029200" y="2438280"/>
            <a:ext cx="8380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952880" y="3124080"/>
            <a:ext cx="16765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867280" y="2286000"/>
            <a:ext cx="685800" cy="30492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5029200" y="2819520"/>
            <a:ext cx="8380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867280" y="2666880"/>
            <a:ext cx="685800" cy="30492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858360" y="213372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0" name=""/>
          <p:cNvCxnSpPr>
            <a:stCxn id="499" idx="0"/>
            <a:endCxn id="494" idx="2"/>
          </p:cNvCxnSpPr>
          <p:nvPr/>
        </p:nvCxnSpPr>
        <p:spPr>
          <a:xfrm flipH="1" flipV="1" rot="5400000">
            <a:off x="4349160" y="4196880"/>
            <a:ext cx="496080" cy="254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1" name=""/>
          <p:cNvCxnSpPr>
            <a:stCxn id="499" idx="2"/>
            <a:endCxn id="497" idx="4"/>
          </p:cNvCxnSpPr>
          <p:nvPr/>
        </p:nvCxnSpPr>
        <p:spPr>
          <a:xfrm flipH="1" flipV="1" rot="5400000">
            <a:off x="4996440" y="3815640"/>
            <a:ext cx="686520" cy="1740600"/>
          </a:xfrm>
          <a:prstGeom prst="curvedConnector5">
            <a:avLst>
              <a:gd name="adj1" fmla="val -33315"/>
              <a:gd name="adj2" fmla="val 50000"/>
              <a:gd name="adj3" fmla="val -3331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2" name=""/>
          <p:cNvCxnSpPr>
            <a:stCxn id="509" idx="2"/>
            <a:endCxn id="501" idx="7"/>
          </p:cNvCxnSpPr>
          <p:nvPr/>
        </p:nvCxnSpPr>
        <p:spPr>
          <a:xfrm rot="5400000">
            <a:off x="7317720" y="2900520"/>
            <a:ext cx="830880" cy="211680"/>
          </a:xfrm>
          <a:prstGeom prst="curvedConnector5">
            <a:avLst>
              <a:gd name="adj1" fmla="val 41265"/>
              <a:gd name="adj2" fmla="val 49914"/>
              <a:gd name="adj3" fmla="val 412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3" name=""/>
          <p:cNvSpPr/>
          <p:nvPr/>
        </p:nvSpPr>
        <p:spPr>
          <a:xfrm>
            <a:off x="4345200" y="1905120"/>
            <a:ext cx="174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09480" y="205740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09480" y="281952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09480" y="434340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09480" y="510552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E06A-BF98-41B3-8250-9F047C4C543A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BA1345-0F65-4FD4-8723-096835ED6B7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/>
          </p:nvPr>
        </p:nvSpPr>
        <p:spPr>
          <a:xfrm>
            <a:off x="990360" y="1981080"/>
            <a:ext cx="739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beMap = [EmptyProbeMap createBeg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Map setProbedClass: [self class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beMap = [probeMap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Map addProbe: [probe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etProbeForVariable: "worldXSize”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Class: [self class]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Library setProbeMap: probeM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: [self class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then call [probeDisplayManager createProbeDisplayFor: modelSwarm] in Observ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ModelSwarm’s prob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85800" y="1981080"/>
            <a:ext cx="358920" cy="443160"/>
          </a:xfrm>
          <a:custGeom>
            <a:avLst/>
            <a:gdLst>
              <a:gd name="textAreaLeft" fmla="*/ 81720 w 358920"/>
              <a:gd name="textAreaRight" fmla="*/ 277200 w 3589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85800" y="3352680"/>
            <a:ext cx="358920" cy="443160"/>
          </a:xfrm>
          <a:custGeom>
            <a:avLst/>
            <a:gdLst>
              <a:gd name="textAreaLeft" fmla="*/ 81720 w 358920"/>
              <a:gd name="textAreaRight" fmla="*/ 277200 w 3589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400800" y="3352680"/>
            <a:ext cx="358920" cy="443160"/>
          </a:xfrm>
          <a:custGeom>
            <a:avLst/>
            <a:gdLst>
              <a:gd name="textAreaLeft" fmla="*/ 81720 w 358920"/>
              <a:gd name="textAreaRight" fmla="*/ 277200 w 3589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85800" y="4724280"/>
            <a:ext cx="358920" cy="443160"/>
          </a:xfrm>
          <a:custGeom>
            <a:avLst/>
            <a:gdLst>
              <a:gd name="textAreaLeft" fmla="*/ 81720 w 358920"/>
              <a:gd name="textAreaRight" fmla="*/ 277200 w 3589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E326-A34B-4831-BF5B-11EDEBD77CF7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C63003-77DB-454F-8EBF-4735285AD3C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/>
          <p:nvPr/>
        </p:nvSpPr>
        <p:spPr>
          <a:xfrm>
            <a:off x="7238880" y="2057400"/>
            <a:ext cx="838440" cy="13716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752480" y="3124080"/>
            <a:ext cx="3657600" cy="29718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al frontier: Experiment Bu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5867280" y="3886200"/>
            <a:ext cx="762120" cy="7621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562720" y="1676520"/>
            <a:ext cx="1218960" cy="533160"/>
          </a:xfrm>
          <a:prstGeom prst="flowChartDocument">
            <a:avLst/>
          </a:prstGeom>
          <a:solidFill>
            <a:srgbClr val="ffff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410080" y="2382840"/>
            <a:ext cx="1752840" cy="127476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978360" y="4713120"/>
            <a:ext cx="720720" cy="722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286080" y="3576600"/>
            <a:ext cx="1087560" cy="790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3386160" y="3429000"/>
            <a:ext cx="295200" cy="297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533760" y="3478320"/>
            <a:ext cx="139680" cy="1238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4" name=""/>
          <p:cNvGrpSpPr/>
          <p:nvPr/>
        </p:nvGrpSpPr>
        <p:grpSpPr>
          <a:xfrm>
            <a:off x="2596320" y="4325760"/>
            <a:ext cx="710280" cy="1193040"/>
            <a:chOff x="2596320" y="4325760"/>
            <a:chExt cx="710280" cy="1193040"/>
          </a:xfrm>
        </p:grpSpPr>
        <p:sp>
          <p:nvSpPr>
            <p:cNvPr id="535" name=""/>
            <p:cNvSpPr/>
            <p:nvPr/>
          </p:nvSpPr>
          <p:spPr>
            <a:xfrm rot="17683800">
              <a:off x="2346120" y="4809960"/>
              <a:ext cx="1209960" cy="22464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098520" y="4502880"/>
              <a:ext cx="166680" cy="1666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950200" y="4725720"/>
              <a:ext cx="167040" cy="1674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2838960" y="4911120"/>
              <a:ext cx="167040" cy="1666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2743200" y="5119560"/>
              <a:ext cx="167040" cy="1666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0" name=""/>
          <p:cNvSpPr/>
          <p:nvPr/>
        </p:nvSpPr>
        <p:spPr>
          <a:xfrm>
            <a:off x="3236760" y="4565520"/>
            <a:ext cx="720720" cy="72252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730680" y="4317840"/>
            <a:ext cx="149040" cy="374760"/>
          </a:xfrm>
          <a:prstGeom prst="downArrow">
            <a:avLst>
              <a:gd name="adj1" fmla="val 50000"/>
              <a:gd name="adj2" fmla="val 6286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 rot="10762200">
            <a:off x="3187800" y="4169880"/>
            <a:ext cx="296640" cy="246240"/>
          </a:xfrm>
          <a:custGeom>
            <a:avLst/>
            <a:gdLst>
              <a:gd name="textAreaLeft" fmla="*/ 99000 w 296640"/>
              <a:gd name="textAreaRight" fmla="*/ 254160 w 296640"/>
              <a:gd name="textAreaTop" fmla="*/ 141840 h 246240"/>
              <a:gd name="textAreaBottom" fmla="*/ 210960 h 246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320" bIns="22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477120" y="228600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705720" y="2362320"/>
            <a:ext cx="215640" cy="190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334120" y="3733920"/>
            <a:ext cx="533160" cy="5331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7315200" y="2819520"/>
            <a:ext cx="533520" cy="5331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172200" y="4343400"/>
            <a:ext cx="533520" cy="5335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rot="16200000">
            <a:off x="7107840" y="264528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352680" y="2119320"/>
            <a:ext cx="1905120" cy="13860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ri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505320" y="190512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733920" y="1981080"/>
            <a:ext cx="215640" cy="19080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flipH="1" rot="10837800">
            <a:off x="4114440" y="4343040"/>
            <a:ext cx="297000" cy="246240"/>
          </a:xfrm>
          <a:custGeom>
            <a:avLst/>
            <a:gdLst>
              <a:gd name="textAreaLeft" fmla="*/ 98640 w 297000"/>
              <a:gd name="textAreaRight" fmla="*/ 254160 w 297000"/>
              <a:gd name="textAreaTop" fmla="*/ 141840 h 246240"/>
              <a:gd name="textAreaBottom" fmla="*/ 210960 h 246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320" bIns="22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6172200" y="20574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flipH="1" rot="5400000">
            <a:off x="5202360" y="287388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2590920" y="1752480"/>
            <a:ext cx="838080" cy="9144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1068480" y="35053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248520" y="350532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H="1" rot="10777800">
            <a:off x="6780960" y="3429000"/>
            <a:ext cx="457200" cy="38088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295280" y="2438280"/>
            <a:ext cx="1111320" cy="1143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447920" y="2514600"/>
            <a:ext cx="8380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1523880" y="2819520"/>
            <a:ext cx="685800" cy="304560"/>
          </a:xfrm>
          <a:custGeom>
            <a:avLst/>
            <a:gdLst/>
            <a:ahLst/>
            <a:rect l="l" t="t" r="r" b="b"/>
            <a:pathLst>
              <a:path w="384" h="248">
                <a:moveTo>
                  <a:pt x="0" y="152"/>
                </a:moveTo>
                <a:cubicBezTo>
                  <a:pt x="60" y="76"/>
                  <a:pt x="120" y="0"/>
                  <a:pt x="144" y="8"/>
                </a:cubicBezTo>
                <a:cubicBezTo>
                  <a:pt x="168" y="16"/>
                  <a:pt x="112" y="200"/>
                  <a:pt x="144" y="200"/>
                </a:cubicBezTo>
                <a:cubicBezTo>
                  <a:pt x="176" y="200"/>
                  <a:pt x="296" y="0"/>
                  <a:pt x="336" y="8"/>
                </a:cubicBezTo>
                <a:cubicBezTo>
                  <a:pt x="376" y="16"/>
                  <a:pt x="376" y="208"/>
                  <a:pt x="384" y="248"/>
                </a:cubicBezTo>
              </a:path>
            </a:pathLst>
          </a:custGeom>
          <a:noFill/>
          <a:ln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flipH="1" rot="5400000">
            <a:off x="2666160" y="2438280"/>
            <a:ext cx="304560" cy="1066680"/>
          </a:xfrm>
          <a:prstGeom prst="downArrow">
            <a:avLst>
              <a:gd name="adj1" fmla="val 50000"/>
              <a:gd name="adj2" fmla="val 875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715000" y="327672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962520" y="32004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8C6E-67C8-4B1D-AD47-2D7688E88422}" type="slidenum">
              <a:t>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538D15-9843-4DD8-B56A-227F8EEE3FD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/>
          <p:nvPr/>
        </p:nvSpPr>
        <p:spPr>
          <a:xfrm>
            <a:off x="2514600" y="4572000"/>
            <a:ext cx="5410080" cy="1371600"/>
          </a:xfrm>
          <a:prstGeom prst="ellipse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352680" y="2666880"/>
            <a:ext cx="5029200" cy="990720"/>
          </a:xfrm>
          <a:prstGeom prst="ellipse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evel acti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2743200" y="2133720"/>
            <a:ext cx="4267080" cy="838080"/>
          </a:xfrm>
          <a:prstGeom prst="ellipse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80880" y="1752480"/>
            <a:ext cx="5486400" cy="6098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054600" y="2438280"/>
            <a:ext cx="383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817080" y="2819520"/>
            <a:ext cx="4447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schedule activateIn: self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experimentSwarm activateIn: self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2" name=""/>
          <p:cNvCxnSpPr/>
          <p:nvPr/>
        </p:nvCxnSpPr>
        <p:spPr>
          <a:xfrm>
            <a:off x="4952520" y="2209320"/>
            <a:ext cx="381960" cy="38196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3" name=""/>
          <p:cNvSpPr/>
          <p:nvPr/>
        </p:nvSpPr>
        <p:spPr>
          <a:xfrm>
            <a:off x="380880" y="182880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 main.m: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observerSwarm activateIn: nil]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533520" y="3962520"/>
            <a:ext cx="4190760" cy="99036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838080" y="3505320"/>
            <a:ext cx="4496040" cy="68580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997200" y="3657600"/>
            <a:ext cx="383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7" name=""/>
          <p:cNvCxnSpPr/>
          <p:nvPr/>
        </p:nvCxnSpPr>
        <p:spPr>
          <a:xfrm rot="5400000">
            <a:off x="3428280" y="3352680"/>
            <a:ext cx="381960" cy="381600"/>
          </a:xfrm>
          <a:prstGeom prst="curvedConnector5">
            <a:avLst>
              <a:gd name="adj1" fmla="val 50000"/>
              <a:gd name="adj2" fmla="val 49952"/>
              <a:gd name="adj3" fmla="val 50000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8" name=""/>
          <p:cNvCxnSpPr/>
          <p:nvPr/>
        </p:nvCxnSpPr>
        <p:spPr>
          <a:xfrm>
            <a:off x="5257440" y="2666520"/>
            <a:ext cx="305640" cy="2293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9" name=""/>
          <p:cNvCxnSpPr/>
          <p:nvPr/>
        </p:nvCxnSpPr>
        <p:spPr>
          <a:xfrm rot="5400000">
            <a:off x="3340440" y="3821760"/>
            <a:ext cx="273240" cy="55476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0" name=""/>
          <p:cNvSpPr/>
          <p:nvPr/>
        </p:nvSpPr>
        <p:spPr>
          <a:xfrm>
            <a:off x="2971800" y="5181480"/>
            <a:ext cx="3886200" cy="6098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276720" y="4691160"/>
            <a:ext cx="4495680" cy="68580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587760" y="4800600"/>
            <a:ext cx="383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282480" y="5334120"/>
            <a:ext cx="347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schedule activateIn: self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4" name=""/>
          <p:cNvCxnSpPr/>
          <p:nvPr/>
        </p:nvCxnSpPr>
        <p:spPr>
          <a:xfrm>
            <a:off x="4572000" y="4495320"/>
            <a:ext cx="397440" cy="305640"/>
          </a:xfrm>
          <a:prstGeom prst="curvedConnector5">
            <a:avLst>
              <a:gd name="adj1" fmla="val 49954"/>
              <a:gd name="adj2" fmla="val 50000"/>
              <a:gd name="adj3" fmla="val 49954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5" name=""/>
          <p:cNvCxnSpPr/>
          <p:nvPr/>
        </p:nvCxnSpPr>
        <p:spPr>
          <a:xfrm>
            <a:off x="5715000" y="5105520"/>
            <a:ext cx="381600" cy="3816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6" name=""/>
          <p:cNvSpPr/>
          <p:nvPr/>
        </p:nvSpPr>
        <p:spPr>
          <a:xfrm>
            <a:off x="844560" y="4191120"/>
            <a:ext cx="3838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schedule activateIn: self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modelSwarm activateIn: self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1143720" y="266688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5029920" y="3886200"/>
            <a:ext cx="177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r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1219680" y="52578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8CC3-7253-486A-9F5E-9AB5DD8A2B34}" type="slidenum">
              <a:t>4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70FCD0-79B6-46CB-9021-A0136AE9CBF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external program to execute Swa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990720" y="3619440"/>
            <a:ext cx="1830240" cy="14875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316320" y="4002120"/>
            <a:ext cx="557280" cy="5713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2820960" y="3249720"/>
            <a:ext cx="878040" cy="63648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2104920" y="4414680"/>
            <a:ext cx="360360" cy="3621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1757520" y="3846600"/>
            <a:ext cx="544320" cy="39528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1808280" y="3772080"/>
            <a:ext cx="147600" cy="14904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1882800" y="3797280"/>
            <a:ext cx="69840" cy="6192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solidFill>
            <a:srgbClr val="dddddd"/>
          </a:solidFill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1412640" y="4222440"/>
            <a:ext cx="355320" cy="596520"/>
            <a:chOff x="1412640" y="4222440"/>
            <a:chExt cx="355320" cy="596520"/>
          </a:xfrm>
        </p:grpSpPr>
        <p:sp>
          <p:nvSpPr>
            <p:cNvPr id="599" name=""/>
            <p:cNvSpPr/>
            <p:nvPr/>
          </p:nvSpPr>
          <p:spPr>
            <a:xfrm rot="17683800">
              <a:off x="1287720" y="4464360"/>
              <a:ext cx="604800" cy="1126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1664280" y="4310640"/>
              <a:ext cx="83520" cy="831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589760" y="4421880"/>
              <a:ext cx="83520" cy="835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533960" y="4514760"/>
              <a:ext cx="83520" cy="831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1486080" y="4618800"/>
              <a:ext cx="83520" cy="831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4" name=""/>
          <p:cNvSpPr/>
          <p:nvPr/>
        </p:nvSpPr>
        <p:spPr>
          <a:xfrm>
            <a:off x="1733400" y="4341960"/>
            <a:ext cx="360360" cy="360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981080" y="4218120"/>
            <a:ext cx="74880" cy="187200"/>
          </a:xfrm>
          <a:prstGeom prst="downArrow">
            <a:avLst>
              <a:gd name="adj1" fmla="val 50000"/>
              <a:gd name="adj2" fmla="val 6250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rot="10762200">
            <a:off x="1708200" y="4143240"/>
            <a:ext cx="149040" cy="123840"/>
          </a:xfrm>
          <a:custGeom>
            <a:avLst/>
            <a:gdLst>
              <a:gd name="textAreaLeft" fmla="*/ 49680 w 149040"/>
              <a:gd name="textAreaRight" fmla="*/ 127800 w 149040"/>
              <a:gd name="textAreaTop" fmla="*/ 71280 h 123840"/>
              <a:gd name="textAreaBottom" fmla="*/ 106200 h 1238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H="1" rot="10777800">
            <a:off x="3506040" y="3809520"/>
            <a:ext cx="230040" cy="192240"/>
          </a:xfrm>
          <a:custGeom>
            <a:avLst/>
            <a:gdLst>
              <a:gd name="textAreaLeft" fmla="*/ 76680 w 230040"/>
              <a:gd name="textAreaRight" fmla="*/ 197280 w 230040"/>
              <a:gd name="textAreaTop" fmla="*/ 110880 h 192240"/>
              <a:gd name="textAreaBottom" fmla="*/ 164880 h 192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354480" y="3200400"/>
            <a:ext cx="228600" cy="22860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468600" y="3238560"/>
            <a:ext cx="108000" cy="950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solidFill>
            <a:srgbClr val="dddddd"/>
          </a:solidFill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125880" y="3772080"/>
            <a:ext cx="114120" cy="288720"/>
          </a:xfrm>
          <a:prstGeom prst="downArrow">
            <a:avLst>
              <a:gd name="adj1" fmla="val 50000"/>
              <a:gd name="adj2" fmla="val 63249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3049560" y="4078440"/>
            <a:ext cx="266760" cy="2664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774960" y="3467160"/>
            <a:ext cx="266760" cy="26676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736800" y="4307040"/>
            <a:ext cx="266760" cy="2664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 rot="16200000">
            <a:off x="3670200" y="3379320"/>
            <a:ext cx="114120" cy="288720"/>
          </a:xfrm>
          <a:prstGeom prst="downArrow">
            <a:avLst>
              <a:gd name="adj1" fmla="val 50000"/>
              <a:gd name="adj2" fmla="val 63249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1790640" y="3117960"/>
            <a:ext cx="954000" cy="691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866960" y="3009960"/>
            <a:ext cx="230040" cy="22860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982880" y="3048120"/>
            <a:ext cx="108000" cy="950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solidFill>
            <a:srgbClr val="dddddd"/>
          </a:solidFill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 flipH="1" rot="10837800">
            <a:off x="2172960" y="4230360"/>
            <a:ext cx="147600" cy="122040"/>
          </a:xfrm>
          <a:custGeom>
            <a:avLst/>
            <a:gdLst>
              <a:gd name="textAreaLeft" fmla="*/ 49680 w 147600"/>
              <a:gd name="textAreaRight" fmla="*/ 127080 w 147600"/>
              <a:gd name="textAreaTop" fmla="*/ 70200 h 122040"/>
              <a:gd name="textAreaBottom" fmla="*/ 104760 h 1220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240" bIns="-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 rot="10822200">
            <a:off x="1561320" y="3466440"/>
            <a:ext cx="228600" cy="190440"/>
          </a:xfrm>
          <a:custGeom>
            <a:avLst/>
            <a:gdLst>
              <a:gd name="textAreaLeft" fmla="*/ 76320 w 228600"/>
              <a:gd name="textAreaRight" fmla="*/ 195840 w 228600"/>
              <a:gd name="textAreaTop" fmla="*/ 109800 h 190440"/>
              <a:gd name="textAreaBottom" fmla="*/ 163080 h 190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201840" y="3086280"/>
            <a:ext cx="114480" cy="288720"/>
          </a:xfrm>
          <a:prstGeom prst="downArrow">
            <a:avLst>
              <a:gd name="adj1" fmla="val 50000"/>
              <a:gd name="adj2" fmla="val 6305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flipH="1" rot="5400000">
            <a:off x="2717640" y="3494160"/>
            <a:ext cx="114480" cy="288720"/>
          </a:xfrm>
          <a:prstGeom prst="downArrow">
            <a:avLst>
              <a:gd name="adj1" fmla="val 50000"/>
              <a:gd name="adj2" fmla="val 6305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4118040" y="3238560"/>
            <a:ext cx="419040" cy="685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257480" y="2895480"/>
            <a:ext cx="419040" cy="4572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4800600" y="3809880"/>
            <a:ext cx="1773360" cy="1104840"/>
            <a:chOff x="4800600" y="3809880"/>
            <a:chExt cx="1773360" cy="1104840"/>
          </a:xfrm>
        </p:grpSpPr>
        <p:sp>
          <p:nvSpPr>
            <p:cNvPr id="625" name=""/>
            <p:cNvSpPr/>
            <p:nvPr/>
          </p:nvSpPr>
          <p:spPr>
            <a:xfrm>
              <a:off x="4800600" y="4171680"/>
              <a:ext cx="915120" cy="7430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963760" y="4362480"/>
              <a:ext cx="277920" cy="28584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753880" y="3809880"/>
              <a:ext cx="304920" cy="133200"/>
            </a:xfrm>
            <a:prstGeom prst="flowChartDocumen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715720" y="3986280"/>
              <a:ext cx="438480" cy="318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357520" y="4569120"/>
              <a:ext cx="180360" cy="1807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184360" y="4285080"/>
              <a:ext cx="272160" cy="1976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209200" y="4248000"/>
              <a:ext cx="73800" cy="7416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246280" y="4260240"/>
              <a:ext cx="34920" cy="3096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3" name=""/>
            <p:cNvGrpSpPr/>
            <p:nvPr/>
          </p:nvGrpSpPr>
          <p:grpSpPr>
            <a:xfrm>
              <a:off x="5011200" y="4472640"/>
              <a:ext cx="177480" cy="298080"/>
              <a:chOff x="5011200" y="4472640"/>
              <a:chExt cx="177480" cy="298080"/>
            </a:xfrm>
          </p:grpSpPr>
          <p:sp>
            <p:nvSpPr>
              <p:cNvPr id="634" name=""/>
              <p:cNvSpPr/>
              <p:nvPr/>
            </p:nvSpPr>
            <p:spPr>
              <a:xfrm rot="17683800">
                <a:off x="4948560" y="4593600"/>
                <a:ext cx="302400" cy="561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5137200" y="451656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5100120" y="457236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5072040" y="4618800"/>
                <a:ext cx="41760" cy="414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5048280" y="467100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9" name=""/>
            <p:cNvSpPr/>
            <p:nvPr/>
          </p:nvSpPr>
          <p:spPr>
            <a:xfrm>
              <a:off x="5171760" y="4532400"/>
              <a:ext cx="180360" cy="1807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295600" y="4470480"/>
              <a:ext cx="37080" cy="93600"/>
            </a:xfrm>
            <a:prstGeom prst="downArrow">
              <a:avLst>
                <a:gd name="adj1" fmla="val 50000"/>
                <a:gd name="adj2" fmla="val 6310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 rot="10762200">
              <a:off x="5159520" y="4433040"/>
              <a:ext cx="74160" cy="61560"/>
            </a:xfrm>
            <a:custGeom>
              <a:avLst/>
              <a:gdLst>
                <a:gd name="textAreaLeft" fmla="*/ 24840 w 74160"/>
                <a:gd name="textAreaRight" fmla="*/ 63720 w 74160"/>
                <a:gd name="textAreaTop" fmla="*/ 35640 h 61560"/>
                <a:gd name="textAreaBottom" fmla="*/ 52920 h 6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 flipH="1" rot="10777800">
              <a:off x="6057720" y="4267080"/>
              <a:ext cx="114120" cy="95040"/>
            </a:xfrm>
            <a:custGeom>
              <a:avLst/>
              <a:gdLst>
                <a:gd name="textAreaLeft" fmla="*/ 37800 w 114120"/>
                <a:gd name="textAreaRight" fmla="*/ 97560 w 114120"/>
                <a:gd name="textAreaTop" fmla="*/ 54720 h 95040"/>
                <a:gd name="textAreaBottom" fmla="*/ 81360 h 9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982840" y="3962160"/>
              <a:ext cx="114120" cy="11412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6040080" y="3981240"/>
              <a:ext cx="53640" cy="4752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868360" y="424800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830200" y="440064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6192720" y="409572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6173640" y="451476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 rot="16200000">
              <a:off x="6140880" y="405216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200920" y="3920400"/>
              <a:ext cx="476640" cy="3466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5239080" y="3866760"/>
              <a:ext cx="114120" cy="11412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296320" y="3885840"/>
              <a:ext cx="53640" cy="4752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 rot="10837800">
              <a:off x="5391720" y="4476600"/>
              <a:ext cx="74160" cy="61560"/>
            </a:xfrm>
            <a:custGeom>
              <a:avLst/>
              <a:gdLst>
                <a:gd name="textAreaLeft" fmla="*/ 24840 w 74160"/>
                <a:gd name="textAreaRight" fmla="*/ 63720 w 74160"/>
                <a:gd name="textAreaTop" fmla="*/ 35640 h 61560"/>
                <a:gd name="textAreaBottom" fmla="*/ 52920 h 6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 rot="10822200">
              <a:off x="5085720" y="4095360"/>
              <a:ext cx="114120" cy="95040"/>
            </a:xfrm>
            <a:custGeom>
              <a:avLst/>
              <a:gdLst>
                <a:gd name="textAreaLeft" fmla="*/ 38160 w 114120"/>
                <a:gd name="textAreaRight" fmla="*/ 97920 w 114120"/>
                <a:gd name="textAreaTop" fmla="*/ 54720 h 95040"/>
                <a:gd name="textAreaBottom" fmla="*/ 81360 h 9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5906520" y="390492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 rot="5400000">
              <a:off x="5664240" y="410940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6364440" y="3981240"/>
              <a:ext cx="209520" cy="3430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4933800" y="3809880"/>
              <a:ext cx="209520" cy="228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9" name=""/>
          <p:cNvGrpSpPr/>
          <p:nvPr/>
        </p:nvGrpSpPr>
        <p:grpSpPr>
          <a:xfrm>
            <a:off x="6781680" y="3809880"/>
            <a:ext cx="1773360" cy="1104840"/>
            <a:chOff x="6781680" y="3809880"/>
            <a:chExt cx="1773360" cy="1104840"/>
          </a:xfrm>
        </p:grpSpPr>
        <p:sp>
          <p:nvSpPr>
            <p:cNvPr id="660" name=""/>
            <p:cNvSpPr/>
            <p:nvPr/>
          </p:nvSpPr>
          <p:spPr>
            <a:xfrm>
              <a:off x="6781680" y="4171680"/>
              <a:ext cx="915120" cy="7430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944840" y="4362480"/>
              <a:ext cx="277920" cy="28584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7734960" y="3809880"/>
              <a:ext cx="304920" cy="133200"/>
            </a:xfrm>
            <a:prstGeom prst="flowChartDocumen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7696800" y="3986280"/>
              <a:ext cx="438480" cy="318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7338600" y="4569120"/>
              <a:ext cx="180360" cy="1807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7165440" y="4285080"/>
              <a:ext cx="272160" cy="1976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190280" y="4248000"/>
              <a:ext cx="73800" cy="7416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227360" y="4260240"/>
              <a:ext cx="34920" cy="3096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8" name=""/>
            <p:cNvGrpSpPr/>
            <p:nvPr/>
          </p:nvGrpSpPr>
          <p:grpSpPr>
            <a:xfrm>
              <a:off x="6992280" y="4472640"/>
              <a:ext cx="177480" cy="298080"/>
              <a:chOff x="6992280" y="4472640"/>
              <a:chExt cx="177480" cy="298080"/>
            </a:xfrm>
          </p:grpSpPr>
          <p:sp>
            <p:nvSpPr>
              <p:cNvPr id="669" name=""/>
              <p:cNvSpPr/>
              <p:nvPr/>
            </p:nvSpPr>
            <p:spPr>
              <a:xfrm rot="17683800">
                <a:off x="6929640" y="4593600"/>
                <a:ext cx="302400" cy="561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7118280" y="451656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7081200" y="457236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7053120" y="4618800"/>
                <a:ext cx="41760" cy="414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7029360" y="467100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4" name=""/>
            <p:cNvSpPr/>
            <p:nvPr/>
          </p:nvSpPr>
          <p:spPr>
            <a:xfrm>
              <a:off x="7152840" y="4532400"/>
              <a:ext cx="180360" cy="1807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276680" y="4470480"/>
              <a:ext cx="37080" cy="93600"/>
            </a:xfrm>
            <a:prstGeom prst="downArrow">
              <a:avLst>
                <a:gd name="adj1" fmla="val 50000"/>
                <a:gd name="adj2" fmla="val 6310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 rot="10762200">
              <a:off x="7140600" y="4433040"/>
              <a:ext cx="74160" cy="61560"/>
            </a:xfrm>
            <a:custGeom>
              <a:avLst/>
              <a:gdLst>
                <a:gd name="textAreaLeft" fmla="*/ 24840 w 74160"/>
                <a:gd name="textAreaRight" fmla="*/ 63720 w 74160"/>
                <a:gd name="textAreaTop" fmla="*/ 35640 h 61560"/>
                <a:gd name="textAreaBottom" fmla="*/ 52920 h 6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rot="10777800">
              <a:off x="8038800" y="4267080"/>
              <a:ext cx="114120" cy="95040"/>
            </a:xfrm>
            <a:custGeom>
              <a:avLst/>
              <a:gdLst>
                <a:gd name="textAreaLeft" fmla="*/ 37800 w 114120"/>
                <a:gd name="textAreaRight" fmla="*/ 97560 w 114120"/>
                <a:gd name="textAreaTop" fmla="*/ 54720 h 95040"/>
                <a:gd name="textAreaBottom" fmla="*/ 81360 h 9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7963920" y="3962160"/>
              <a:ext cx="114120" cy="11412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8021160" y="3981240"/>
              <a:ext cx="53640" cy="4752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849440" y="424800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811280" y="440064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8173800" y="409572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8154720" y="451476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 rot="16200000">
              <a:off x="8121960" y="405216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7182000" y="3920400"/>
              <a:ext cx="476640" cy="3466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7220160" y="3866760"/>
              <a:ext cx="114120" cy="11412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277400" y="3885840"/>
              <a:ext cx="53640" cy="4752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 flipH="1" rot="10837800">
              <a:off x="7372800" y="4476600"/>
              <a:ext cx="74160" cy="61560"/>
            </a:xfrm>
            <a:custGeom>
              <a:avLst/>
              <a:gdLst>
                <a:gd name="textAreaLeft" fmla="*/ 24840 w 74160"/>
                <a:gd name="textAreaRight" fmla="*/ 63720 w 74160"/>
                <a:gd name="textAreaTop" fmla="*/ 35640 h 61560"/>
                <a:gd name="textAreaBottom" fmla="*/ 52920 h 6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rot="10822200">
              <a:off x="7066800" y="4095360"/>
              <a:ext cx="114120" cy="95040"/>
            </a:xfrm>
            <a:custGeom>
              <a:avLst/>
              <a:gdLst>
                <a:gd name="textAreaLeft" fmla="*/ 38160 w 114120"/>
                <a:gd name="textAreaRight" fmla="*/ 97920 w 114120"/>
                <a:gd name="textAreaTop" fmla="*/ 54720 h 95040"/>
                <a:gd name="textAreaBottom" fmla="*/ 81360 h 9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7887600" y="390492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 flipH="1" rot="5400000">
              <a:off x="7645320" y="410940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8345520" y="3981240"/>
              <a:ext cx="209520" cy="3430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6914880" y="3809880"/>
              <a:ext cx="209520" cy="228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 approaches to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Swarm to control experiment ru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5181480" y="2895480"/>
            <a:ext cx="3048120" cy="60984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ernal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 flipH="1">
            <a:off x="5867280" y="3505320"/>
            <a:ext cx="914400" cy="380880"/>
          </a:xfrm>
          <a:prstGeom prst="line">
            <a:avLst/>
          </a:prstGeom>
          <a:ln w="5724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6781680" y="3505320"/>
            <a:ext cx="914400" cy="380880"/>
          </a:xfrm>
          <a:prstGeom prst="line">
            <a:avLst/>
          </a:prstGeom>
          <a:ln w="5724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24C2-368B-4ED2-B6F3-34F7C48F5415}" type="slidenum">
              <a:t>49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A06982-EAE2-45AD-A1AD-A3C351CA761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ing header file gives us access to random number obj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C program must have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ma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unction, which can take 2 arg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gc : # of command line ar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gv: value of command line ar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Swarm() function checks command line args and revs up Swarm eng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ogram uses default random number distributions to choose new location for bu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9480" y="205740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342900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05740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0" y="37339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C - explan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C204-B5E0-436B-9FA3-3D2A7405110A}" type="slidenum">
              <a:t>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068DED-272D-4A1C-9624-A8DC976A622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 approaches: Pros and c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Swarm to control experiment ru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processing is done within Swarm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use GUI interactive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quential - can’t parallelize in present 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external program to execute Swa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do “poor mans” paralellization on multiprocessor mach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quires knowledge of tools outside Swarm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E4D3-CF98-4EB7-879C-82683A2D4270}" type="slidenum">
              <a:t>5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387343-F2EF-4F20-AF30-404B54E7374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Obj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implest version of an Objective-C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main( )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class, one instance: Bu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( ) imports base library of Swarm and fires up initSwarm( ) which gives us libraries for memory allocation et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952880" y="2743200"/>
            <a:ext cx="3657600" cy="3429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029200" y="4267080"/>
            <a:ext cx="32767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792760" y="3276720"/>
            <a:ext cx="1857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Pos,yP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orldXSize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orldY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35560" y="4495680"/>
            <a:ext cx="29239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X: 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setWorldSizeX: 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st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543800" y="2590920"/>
            <a:ext cx="119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039200" y="556272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"/>
          <p:cNvCxnSpPr/>
          <p:nvPr/>
        </p:nvCxnSpPr>
        <p:spPr>
          <a:xfrm flipH="1" flipV="1" rot="5400000">
            <a:off x="7162560" y="2666520"/>
            <a:ext cx="305640" cy="91512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lg" type="triangle" w="lg"/>
          </a:ln>
        </p:spPr>
      </p:cxnSp>
      <p:cxnSp>
        <p:nvCxnSpPr>
          <p:cNvPr id="73" name=""/>
          <p:cNvCxnSpPr/>
          <p:nvPr/>
        </p:nvCxnSpPr>
        <p:spPr>
          <a:xfrm flipH="1" flipV="1" rot="5400000">
            <a:off x="4639680" y="5036760"/>
            <a:ext cx="457920" cy="594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4" name=""/>
          <p:cNvSpPr/>
          <p:nvPr/>
        </p:nvSpPr>
        <p:spPr>
          <a:xfrm>
            <a:off x="5943600" y="1981080"/>
            <a:ext cx="1330200" cy="866880"/>
          </a:xfrm>
          <a:prstGeom prst="flowChartDocumen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456240" y="2716200"/>
            <a:ext cx="212760" cy="423720"/>
          </a:xfrm>
          <a:prstGeom prst="downArrow">
            <a:avLst>
              <a:gd name="adj1" fmla="val 50000"/>
              <a:gd name="adj2" fmla="val 49788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07CC-3333-4321-A6EB-CB6B6E5C9D1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3213C9-C316-479A-B046-7748459C2AF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ObjC: The bug as obj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5800" y="1981080"/>
            <a:ext cx="3352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heriting from the ObjectBase class Bug knows these trick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: Allocate 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op: Deallocate and d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62520" y="1981080"/>
            <a:ext cx="4724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instruct class to create instance of itself. Associate instance with aBu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Bug=[Bug create:global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 set parameters in the instance, aBu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aBug setX: xPos Y: yPos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aBug setWorldXSize: worldXSize Y: worldYSiz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A22E-979C-4AB5-A4F9-D042BFEF1F24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BD01C4-7F8C-45A2-A4E0-48755D7F2B7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1280" y="2057400"/>
            <a:ext cx="4953240" cy="457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ug = [Bug createBegin: globalZone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581280" y="2666880"/>
            <a:ext cx="4953240" cy="144792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581280" y="4191120"/>
            <a:ext cx="4953240" cy="1295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ug = [aBug createEnd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create ph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580920" y="2666520"/>
            <a:ext cx="49532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aBug setWorldSizeX: xsize Y: ysize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aBug setFoodSpace: foodSpace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aBug setX: xPos Y: yPos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20574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cate memory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62120" y="259092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all necessary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62120" y="419112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ish initi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return pro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 of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F17F-2AB8-4C21-8350-4F360A359BC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4A27AB-FDD6-4095-8939-C57BF120BD5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ObjC II: The Food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re create a world for the bug to roam around in and e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world is defined in FoodSpace, a subclass of Discrete2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2d manages a lattice of integer valu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343400" y="4952880"/>
            <a:ext cx="4057560" cy="1146240"/>
          </a:xfrm>
          <a:prstGeom prst="wedgeRectCallout">
            <a:avLst>
              <a:gd name="adj1" fmla="val -1291"/>
              <a:gd name="adj2" fmla="val -16205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passing the Bug a point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FoodSpace it can “talk”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.e. forage in) the other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867280" y="1981080"/>
            <a:ext cx="1330560" cy="866880"/>
          </a:xfrm>
          <a:prstGeom prst="flowChartDocumen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495680" y="2666880"/>
            <a:ext cx="1600200" cy="16002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629400" y="2971800"/>
            <a:ext cx="1676520" cy="1619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d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3" name=""/>
          <p:cNvCxnSpPr/>
          <p:nvPr/>
        </p:nvCxnSpPr>
        <p:spPr>
          <a:xfrm>
            <a:off x="6095520" y="3504960"/>
            <a:ext cx="686520" cy="105480"/>
          </a:xfrm>
          <a:prstGeom prst="straightConnector1">
            <a:avLst/>
          </a:prstGeom>
          <a:ln w="38160">
            <a:solidFill>
              <a:srgbClr val="b2b2b2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94" name=""/>
          <p:cNvSpPr/>
          <p:nvPr/>
        </p:nvSpPr>
        <p:spPr>
          <a:xfrm rot="10762200">
            <a:off x="5486400" y="2437920"/>
            <a:ext cx="457200" cy="381240"/>
          </a:xfrm>
          <a:custGeom>
            <a:avLst/>
            <a:gdLst>
              <a:gd name="textAreaLeft" fmla="*/ 152280 w 457200"/>
              <a:gd name="textAreaRight" fmla="*/ 391680 w 45720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 rot="10777800">
            <a:off x="7162200" y="2666520"/>
            <a:ext cx="457200" cy="38124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01F4-C5D8-442B-A726-F6972B54BDF2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5B1727-04EB-403F-80C7-1BCE9A360E3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6T04:23:39Z</dcterms:created>
  <dc:creator>Benedikt Stefansson</dc:creator>
  <dc:description/>
  <dc:language>en-US</dc:language>
  <cp:lastModifiedBy>Office</cp:lastModifiedBy>
  <cp:lastPrinted>1998-03-18T02:24:41Z</cp:lastPrinted>
  <dcterms:modified xsi:type="dcterms:W3CDTF">1999-04-02T03:43:43Z</dcterms:modified>
  <cp:revision>40</cp:revision>
  <dc:subject/>
  <dc:title>Swarmfest ‘98 Tutoria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cce.sscnet.ucla.edu/swarmcourse</vt:lpwstr>
  </property>
  <property fmtid="{D5CDD505-2E9C-101B-9397-08002B2CF9AE}" pid="9" name="LinkColor">
    <vt:r8>16711782</vt:r8>
  </property>
  <property fmtid="{D5CDD505-2E9C-101B-9397-08002B2CF9AE}" pid="10" name="MailAddress">
    <vt:lpwstr>benedikt@ucla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swarmfest99\tutorial99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